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8.wmf" ContentType="image/x-wmf"/>
  <Override PartName="/ppt/media/image39.wmf" ContentType="image/x-wmf"/>
  <Override PartName="/ppt/media/image34.wmf" ContentType="image/x-wmf"/>
  <Override PartName="/ppt/media/image14.png" ContentType="image/png"/>
  <Override PartName="/ppt/media/image40.wmf" ContentType="image/x-wmf"/>
  <Override PartName="/ppt/media/image7.png" ContentType="image/png"/>
  <Override PartName="/ppt/media/image12.png" ContentType="image/png"/>
  <Override PartName="/ppt/media/image35.wmf" ContentType="image/x-wmf"/>
  <Override PartName="/ppt/media/image41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C73-3027-4C5F-96B5-852C414F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C0E-2D07-460C-902E-989A2921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589-E714-42C1-832C-34790E3E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471-966D-431B-9064-9C9783F1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CD52-180A-4252-B8D9-8713E8A9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DD3E-B2B2-49CE-B1BB-BF6EB3D5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8DCC-3EC9-4EDE-8E9C-80A03B47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2101-F0F5-438B-8E1D-3F4D1997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398-C91A-4DFF-B384-A3DC92B4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A4E-77D7-47C3-A9F9-1B67FE68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238-6E2E-4703-9E15-3CF1ECDB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5435-8ACC-4075-A93E-F9E81EB3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DD26-058B-47DD-8581-300716599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ory L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scylatory L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5800" y="174240"/>
            <a:ext cx="834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022840" y="283860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wody rezonansowe - przypomni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93200" y="181080"/>
            <a:ext cx="8319240" cy="6363000"/>
            <a:chOff x="493200" y="181080"/>
            <a:chExt cx="8319240" cy="6363000"/>
          </a:xfrm>
        </p:grpSpPr>
        <p:sp>
          <p:nvSpPr>
            <p:cNvPr id="145" name=""/>
            <p:cNvSpPr/>
            <p:nvPr/>
          </p:nvSpPr>
          <p:spPr>
            <a:xfrm>
              <a:off x="673560" y="181080"/>
              <a:ext cx="813888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wnoległy obwód rezonansowy jest w rezonansie gdy Im(Y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84240" y="860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3200" y="2820960"/>
              <a:ext cx="79700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eregowy obwód rezonansowy jest w rezonansie gdy Im(Z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591160" y="957240"/>
                  <a:ext cx="26989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C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6272280" y="3649680"/>
                  <a:ext cx="180504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50" name=""/>
            <p:cNvGrpSpPr/>
            <p:nvPr/>
          </p:nvGrpSpPr>
          <p:grpSpPr>
            <a:xfrm>
              <a:off x="1438200" y="839880"/>
              <a:ext cx="3838320" cy="1698480"/>
              <a:chOff x="1438200" y="839880"/>
              <a:chExt cx="3838320" cy="16984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438200" y="839880"/>
                <a:ext cx="3838320" cy="1698480"/>
                <a:chOff x="1438200" y="839880"/>
                <a:chExt cx="3838320" cy="169848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1438200" y="839880"/>
                  <a:ext cx="3838320" cy="1666800"/>
                  <a:chOff x="1438200" y="839880"/>
                  <a:chExt cx="3838320" cy="1666800"/>
                </a:xfrm>
              </p:grpSpPr>
              <p:pic>
                <p:nvPicPr>
                  <p:cNvPr id="15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438200" y="839880"/>
                    <a:ext cx="38383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4" name=""/>
                  <p:cNvSpPr/>
                  <p:nvPr/>
                </p:nvSpPr>
                <p:spPr>
                  <a:xfrm>
                    <a:off x="1933200" y="1424160"/>
                    <a:ext cx="718920" cy="36828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(j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949040" y="1868400"/>
                    <a:ext cx="704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2389680" y="2170080"/>
                  <a:ext cx="173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prądó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4308120" y="1263600"/>
                <a:ext cx="412920" cy="50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2117880" y="3427560"/>
              <a:ext cx="3571560" cy="1469880"/>
              <a:chOff x="2117880" y="3427560"/>
              <a:chExt cx="3571560" cy="14698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2117880" y="3427560"/>
                <a:ext cx="3571560" cy="1469880"/>
                <a:chOff x="2117880" y="3427560"/>
                <a:chExt cx="3571560" cy="146988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2117880" y="3427560"/>
                  <a:ext cx="3571560" cy="1447560"/>
                  <a:chOff x="2117880" y="3427560"/>
                  <a:chExt cx="3571560" cy="1447560"/>
                </a:xfrm>
              </p:grpSpPr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7880" y="3427560"/>
                    <a:ext cx="35715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" name=""/>
                  <p:cNvSpPr/>
                  <p:nvPr/>
                </p:nvSpPr>
                <p:spPr>
                  <a:xfrm>
                    <a:off x="2479680" y="3800520"/>
                    <a:ext cx="752400" cy="39888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(j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2622240" y="4295880"/>
                    <a:ext cx="81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052440" y="4529160"/>
                  <a:ext cx="165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napięć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4952880" y="3718080"/>
                <a:ext cx="412200" cy="42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4452840" y="29750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5591160" y="1836720"/>
                  <a:ext cx="165276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1006920" y="6033960"/>
              <a:ext cx="656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Q - dobroć obwodu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- rezystancje dynamicz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4630680" y="5119560"/>
                  <a:ext cx="16686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969480" y="5227560"/>
              <a:ext cx="364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ęstotliwość rezonansow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23840" y="1141560"/>
            <a:ext cx="2086200" cy="21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871880" y="1170000"/>
            <a:ext cx="2610000" cy="2048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562200" y="2046240"/>
            <a:ext cx="1059120" cy="263520"/>
          </a:xfrm>
          <a:prstGeom prst="rightArrow">
            <a:avLst>
              <a:gd name="adj1" fmla="val 50000"/>
              <a:gd name="adj2" fmla="val 1004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42960" y="3218040"/>
                <a:ext cx="986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483240" y="3135240"/>
                <a:ext cx="154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092240" y="4576680"/>
                <a:ext cx="3106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eżeli:   </m:t>
                    </m:r>
                    <m:r>
                      <m:t xml:space="preserve">ω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7" name=""/>
          <p:cNvGrpSpPr/>
          <p:nvPr/>
        </p:nvGrpSpPr>
        <p:grpSpPr>
          <a:xfrm>
            <a:off x="1161000" y="5600880"/>
            <a:ext cx="3215880" cy="452160"/>
            <a:chOff x="1161000" y="5600880"/>
            <a:chExt cx="3215880" cy="452160"/>
          </a:xfrm>
        </p:grpSpPr>
        <p:sp>
          <p:nvSpPr>
            <p:cNvPr id="178" name=""/>
            <p:cNvSpPr/>
            <p:nvPr/>
          </p:nvSpPr>
          <p:spPr>
            <a:xfrm>
              <a:off x="1161000" y="560088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ówcza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2890800" y="5600880"/>
                  <a:ext cx="148608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" name=""/>
          <p:cNvSpPr/>
          <p:nvPr/>
        </p:nvSpPr>
        <p:spPr>
          <a:xfrm>
            <a:off x="274680" y="61596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 ogół straty cewki decydują o dobroci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13200" y="5796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ównoległy model obw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10520" y="4010040"/>
            <a:ext cx="6050520" cy="450720"/>
            <a:chOff x="1010520" y="4010040"/>
            <a:chExt cx="6050520" cy="450720"/>
          </a:xfrm>
        </p:grpSpPr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5334120" y="4010040"/>
                  <a:ext cx="17269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4" name=""/>
            <p:cNvSpPr/>
            <p:nvPr/>
          </p:nvSpPr>
          <p:spPr>
            <a:xfrm>
              <a:off x="1010520" y="4030560"/>
              <a:ext cx="402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broci obu obwodów są takie sam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22840" y="3348000"/>
                <a:ext cx="1463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63920" y="1552680"/>
                <a:ext cx="11476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4935600" y="4757760"/>
            <a:ext cx="3517920" cy="1557000"/>
            <a:chOff x="4935600" y="4757760"/>
            <a:chExt cx="3517920" cy="1557000"/>
          </a:xfrm>
        </p:grpSpPr>
        <p:sp>
          <p:nvSpPr>
            <p:cNvPr id="188" name=""/>
            <p:cNvSpPr/>
            <p:nvPr/>
          </p:nvSpPr>
          <p:spPr>
            <a:xfrm>
              <a:off x="4935600" y="4757760"/>
              <a:ext cx="3517920" cy="155700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leży dążyć 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użego stosunk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7289640" y="5318280"/>
                  <a:ext cx="3574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0" name=""/>
          <p:cNvSpPr/>
          <p:nvPr/>
        </p:nvSpPr>
        <p:spPr>
          <a:xfrm>
            <a:off x="6744960" y="2049480"/>
            <a:ext cx="394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86440" y="1397160"/>
            <a:ext cx="313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25600" y="469800"/>
            <a:ext cx="7034040" cy="92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rezonansie (dl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bwód rezonans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zastąpić jego rezystancją dynamiczną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25400" y="1582560"/>
            <a:ext cx="6594480" cy="4386600"/>
            <a:chOff x="725400" y="1582560"/>
            <a:chExt cx="6594480" cy="4386600"/>
          </a:xfrm>
        </p:grpSpPr>
        <p:pic>
          <p:nvPicPr>
            <p:cNvPr id="194" name="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1025640" y="1582560"/>
              <a:ext cx="20858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25400" y="3921120"/>
              <a:ext cx="261000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5634000" y="2374920"/>
              <a:ext cx="16858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 rot="856800">
              <a:off x="3511080" y="2662200"/>
              <a:ext cx="1640160" cy="300240"/>
            </a:xfrm>
            <a:prstGeom prst="rightArrow">
              <a:avLst>
                <a:gd name="adj1" fmla="val 50000"/>
                <a:gd name="adj2" fmla="val 13657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 rot="20743200">
              <a:off x="3574800" y="4066560"/>
              <a:ext cx="1639800" cy="299880"/>
            </a:xfrm>
            <a:prstGeom prst="rightArrow">
              <a:avLst>
                <a:gd name="adj1" fmla="val 50000"/>
                <a:gd name="adj2" fmla="val 1367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10160" y="32670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480" y="48006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03720" y="1803240"/>
              <a:ext cx="313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774960" y="3182760"/>
            <a:ext cx="123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728640"/>
            <a:ext cx="8474040" cy="1092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w obwodzie straty są wnoszone niezależnie przez cewki i przez kondensatory (rys.), wówczas częstotliwość rezonansowa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 ulec zmianie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920880" y="1782720"/>
            <a:ext cx="6751080" cy="1996920"/>
            <a:chOff x="920880" y="1782720"/>
            <a:chExt cx="6751080" cy="1996920"/>
          </a:xfrm>
        </p:grpSpPr>
        <p:sp>
          <p:nvSpPr>
            <p:cNvPr id="207" name=""/>
            <p:cNvSpPr/>
            <p:nvPr/>
          </p:nvSpPr>
          <p:spPr>
            <a:xfrm>
              <a:off x="2107080" y="2988720"/>
              <a:ext cx="141840" cy="341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74040" y="27324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74040" y="3323160"/>
              <a:ext cx="1440" cy="16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94640" y="3060720"/>
              <a:ext cx="30132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7276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39720" y="3166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053800" y="244116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053800" y="252432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74040" y="2232000"/>
              <a:ext cx="4680" cy="21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9080" y="253584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78440" y="258120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67720" y="2615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99440" y="2356560"/>
              <a:ext cx="252720" cy="126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99440" y="2479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9440" y="2596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78200" y="2333880"/>
              <a:ext cx="158040" cy="405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39480" y="2228040"/>
              <a:ext cx="5040" cy="132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39480" y="2724480"/>
              <a:ext cx="5040" cy="13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15000" y="3462480"/>
              <a:ext cx="5868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80800" y="2633760"/>
              <a:ext cx="141480" cy="339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47760" y="2232000"/>
              <a:ext cx="2880" cy="41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47760" y="2966040"/>
              <a:ext cx="2880" cy="52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68000" y="270576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64480" y="2735640"/>
              <a:ext cx="173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03760" y="2349000"/>
              <a:ext cx="141840" cy="338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70720" y="221688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70720" y="267912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90960" y="2418480"/>
              <a:ext cx="301320" cy="245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47120" y="245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55120" y="252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4320" y="2984760"/>
              <a:ext cx="144720" cy="342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4520" y="2856960"/>
              <a:ext cx="1440" cy="13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4520" y="331920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63680" y="3056760"/>
              <a:ext cx="30276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612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12720" y="316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23600" y="250200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23600" y="258516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47800" y="2220480"/>
              <a:ext cx="1440" cy="288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42760" y="2596320"/>
              <a:ext cx="5040" cy="25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44960" y="2641680"/>
              <a:ext cx="3031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36040" y="26715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89600" y="2422440"/>
              <a:ext cx="301320" cy="24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8824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174040" y="2232000"/>
              <a:ext cx="17762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169360" y="3489120"/>
              <a:ext cx="1781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44520" y="19980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44520" y="350028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20040" y="220932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10320" y="197532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10320" y="373428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84080" y="3364560"/>
              <a:ext cx="373320" cy="128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540840" y="3421080"/>
              <a:ext cx="691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5355720" y="3421080"/>
              <a:ext cx="83268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11520" y="3075480"/>
              <a:ext cx="1227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18040" y="2360520"/>
              <a:ext cx="141840" cy="33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88240" y="222804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88240" y="2690280"/>
              <a:ext cx="1440" cy="16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70640" y="2430000"/>
              <a:ext cx="301320" cy="245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31840" y="2463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39480" y="2539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062480" y="2216880"/>
              <a:ext cx="268200" cy="627840"/>
              <a:chOff x="7062480" y="2216880"/>
              <a:chExt cx="268200" cy="627840"/>
            </a:xfrm>
          </p:grpSpPr>
          <p:sp>
            <p:nvSpPr>
              <p:cNvPr id="269" name=""/>
              <p:cNvSpPr/>
              <p:nvPr/>
            </p:nvSpPr>
            <p:spPr>
              <a:xfrm>
                <a:off x="7078680" y="2345040"/>
                <a:ext cx="252000" cy="126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78680" y="2463480"/>
                <a:ext cx="252000" cy="1242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78680" y="2584800"/>
                <a:ext cx="252000" cy="120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62480" y="2322360"/>
                <a:ext cx="152640" cy="4053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23400" y="2216880"/>
                <a:ext cx="1800" cy="13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23400" y="2712600"/>
                <a:ext cx="1800" cy="132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7369200" y="2411280"/>
              <a:ext cx="30276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68560" y="24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879600" y="2224440"/>
              <a:ext cx="340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888240" y="2853000"/>
              <a:ext cx="3434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334120" y="221688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334120" y="284904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5350680" y="2848680"/>
              <a:ext cx="5040" cy="575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7228080" y="2834280"/>
              <a:ext cx="3240" cy="59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56080" y="1982880"/>
              <a:ext cx="144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22960" y="2198160"/>
              <a:ext cx="5724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22960" y="1960200"/>
              <a:ext cx="5724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32040" y="1982880"/>
              <a:ext cx="180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99280" y="2198160"/>
              <a:ext cx="5868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99280" y="196020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22960" y="282636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99280" y="2830320"/>
              <a:ext cx="58680" cy="486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58840" y="2413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20880" y="2979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96160" y="1782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95760" y="19202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64160" y="3840120"/>
            <a:ext cx="8660160" cy="510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oległy obwód rezonansowy jest w rezonansie gdy Im[Y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6160" y="4491000"/>
            <a:ext cx="8690040" cy="510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egowy obwód rezonansowy jest w rezonansie gdy Im[Z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06480" y="5241960"/>
            <a:ext cx="6788160" cy="1191240"/>
            <a:chOff x="906480" y="5241960"/>
            <a:chExt cx="6788160" cy="1191240"/>
          </a:xfrm>
        </p:grpSpPr>
        <p:sp>
          <p:nvSpPr>
            <p:cNvPr id="298" name=""/>
            <p:cNvSpPr/>
            <p:nvPr/>
          </p:nvSpPr>
          <p:spPr>
            <a:xfrm>
              <a:off x="906480" y="5241960"/>
              <a:ext cx="6788160" cy="119124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 obu przypadkach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4307040" y="5502240"/>
                  <a:ext cx="259056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z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0" name=""/>
          <p:cNvSpPr/>
          <p:nvPr/>
        </p:nvSpPr>
        <p:spPr>
          <a:xfrm>
            <a:off x="4692960" y="5361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451080" y="268200"/>
            <a:ext cx="8149680" cy="5752440"/>
            <a:chOff x="451080" y="268200"/>
            <a:chExt cx="8149680" cy="5752440"/>
          </a:xfrm>
        </p:grpSpPr>
        <p:sp>
          <p:nvSpPr>
            <p:cNvPr id="302" name=""/>
            <p:cNvSpPr/>
            <p:nvPr/>
          </p:nvSpPr>
          <p:spPr>
            <a:xfrm>
              <a:off x="451080" y="268200"/>
              <a:ext cx="8149680" cy="57524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óżnice pomiędzy </a:t>
              </a:r>
              <a:r>
                <a:rPr b="0" lang="pl-P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zeczywistą częstotliwością rezonansową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a teoretyczną częstotliwością:                                nazywa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i="1" lang="pl-PL" sz="2400" spc="-1" strike="noStrike">
                  <a:solidFill>
                    <a:srgbClr val="000000"/>
                  </a:solidFill>
                  <a:latin typeface="Times New Roman"/>
                </a:rPr>
                <a:t>liniowymi poprawkami częstotliwośc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ponieważ można je dokładnie obliczyć,  znając struktur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obwodu rezonansoweg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Liniowe poprawki częstotliwości mogą być dodatnie lub ujemn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4459320" y="1666800"/>
                  <a:ext cx="194292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704880" y="890640"/>
            <a:ext cx="7694640" cy="376236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563840" y="2079720"/>
                <a:ext cx="6278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den>
                        </m:f>
                        <m:r>
                          <m:t xml:space="preserve">≈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zy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przy czym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1523160" y="1163520"/>
            <a:ext cx="6345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równoległego [Im(Y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85720" y="1130400"/>
            <a:ext cx="7694640" cy="383832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098800" y="1995480"/>
                <a:ext cx="4760640" cy="23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przy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L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L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eżeli: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: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606600" y="5351400"/>
            <a:ext cx="7788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częstotliwości wynika z zasady równowagi mocy biernej harmonicznych, sformułowanej przez J. Groszkowski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jest zawsze uje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25520" y="1303200"/>
            <a:ext cx="630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szeregowego [Im(Z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lektywny wzmacniacz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Sp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43640" y="11397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zystor (lampa) jest obciążony obwodem rezonans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754280" y="2252520"/>
            <a:ext cx="5381640" cy="3681720"/>
            <a:chOff x="1754280" y="2252520"/>
            <a:chExt cx="5381640" cy="368172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1754280" y="2252520"/>
              <a:ext cx="5381640" cy="36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2587680" y="4230720"/>
              <a:ext cx="69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523800" y="912960"/>
            <a:ext cx="7524720" cy="5661000"/>
            <a:chOff x="523800" y="912960"/>
            <a:chExt cx="7524720" cy="5661000"/>
          </a:xfrm>
        </p:grpSpPr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523800" y="912960"/>
              <a:ext cx="7524720" cy="56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2108520" y="1467000"/>
              <a:ext cx="154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=348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26800" y="2795760"/>
              <a:ext cx="161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348V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81960" y="2011320"/>
              <a:ext cx="103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g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1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74880" y="1720800"/>
              <a:ext cx="8906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95680" y="2984400"/>
            <a:ext cx="31752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43680" y="1784520"/>
            <a:ext cx="0" cy="1180800"/>
          </a:xfrm>
          <a:prstGeom prst="line">
            <a:avLst/>
          </a:prstGeom>
          <a:ln w="93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41840" y="17589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13200" y="2984400"/>
            <a:ext cx="52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99120" y="1984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8600" y="1771560"/>
            <a:ext cx="0" cy="4334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44960" y="5460840"/>
            <a:ext cx="170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1,02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041880" y="3733920"/>
                <a:ext cx="1289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Δ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121360" y="3292560"/>
                <a:ext cx="730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 flipH="1" flipV="1">
            <a:off x="4704840" y="3066840"/>
            <a:ext cx="3430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50680" y="1523880"/>
            <a:ext cx="6688080" cy="4300560"/>
            <a:chOff x="850680" y="1523880"/>
            <a:chExt cx="6688080" cy="4300560"/>
          </a:xfrm>
        </p:grpSpPr>
        <p:sp>
          <p:nvSpPr>
            <p:cNvPr id="45" name=""/>
            <p:cNvSpPr/>
            <p:nvPr/>
          </p:nvSpPr>
          <p:spPr>
            <a:xfrm>
              <a:off x="3124080" y="3809880"/>
              <a:ext cx="2362320" cy="114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86400" y="40384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24480" y="398304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86400" y="464796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24480" y="459252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51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512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298600">
              <a:off x="49068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8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81280" y="411480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05360" y="4178160"/>
              <a:ext cx="152640" cy="36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81680" y="4530600"/>
              <a:ext cx="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57680" y="464796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7680" y="403848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81680" y="40384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09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52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809880" y="5644800"/>
              <a:ext cx="53352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19360" y="5645160"/>
              <a:ext cx="55260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43400" y="5562360"/>
              <a:ext cx="0" cy="179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19360" y="5464080"/>
              <a:ext cx="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828800" y="1523880"/>
              <a:ext cx="5029200" cy="2014560"/>
              <a:chOff x="1828800" y="1523880"/>
              <a:chExt cx="5029200" cy="2014560"/>
            </a:xfrm>
          </p:grpSpPr>
          <p:sp>
            <p:nvSpPr>
              <p:cNvPr id="67" name=""/>
              <p:cNvSpPr/>
              <p:nvPr/>
            </p:nvSpPr>
            <p:spPr>
              <a:xfrm>
                <a:off x="3124440" y="1523880"/>
                <a:ext cx="2361960" cy="1143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4864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324840" y="169704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4864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24840" y="23065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860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7080" y="16999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2860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197080" y="2305080"/>
                <a:ext cx="108000" cy="10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51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751560" y="3124080"/>
                <a:ext cx="10764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5298600">
                <a:off x="4907160" y="312408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808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427200" y="1828800"/>
                <a:ext cx="1758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zmacniac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lektywn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28800" y="1892160"/>
                <a:ext cx="15264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705720" y="1892160"/>
                <a:ext cx="15228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8204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5804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5804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78204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512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0512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0512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0512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10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53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3810240" y="3358800"/>
                <a:ext cx="53316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19720" y="3359160"/>
                <a:ext cx="55260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343400" y="3276360"/>
                <a:ext cx="0" cy="1796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419720" y="3178080"/>
                <a:ext cx="0" cy="360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945120" y="1828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70360" y="18288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21080" y="4114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04080" y="2971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80400" y="5257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1600" y="190476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205740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504800" y="19047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501560" y="236196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23880" y="175248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523880" y="175212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9560" y="2333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1640" y="17301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0680" y="182880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63600" y="1052640"/>
            <a:ext cx="8143920" cy="5530680"/>
            <a:chOff x="363600" y="1052640"/>
            <a:chExt cx="8143920" cy="5530680"/>
          </a:xfrm>
        </p:grpSpPr>
        <p:grpSp>
          <p:nvGrpSpPr>
            <p:cNvPr id="338" name=""/>
            <p:cNvGrpSpPr/>
            <p:nvPr/>
          </p:nvGrpSpPr>
          <p:grpSpPr>
            <a:xfrm>
              <a:off x="363600" y="1052640"/>
              <a:ext cx="8143920" cy="5530680"/>
              <a:chOff x="363600" y="1052640"/>
              <a:chExt cx="8143920" cy="5530680"/>
            </a:xfrm>
          </p:grpSpPr>
          <p:pic>
            <p:nvPicPr>
              <p:cNvPr id="3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600" y="1052640"/>
                <a:ext cx="8143920" cy="55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>
                <a:off x="5187600" y="4410000"/>
                <a:ext cx="104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aza 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576880" y="2727360"/>
                <a:ext cx="100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e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008480" y="1253880"/>
                <a:ext cx="100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m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613320" y="2993760"/>
                <a:ext cx="107604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308280" y="1509480"/>
                <a:ext cx="73188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 flipH="1">
              <a:off x="5071680" y="4813200"/>
              <a:ext cx="44460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51000" y="470700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-180</a:t>
              </a:r>
              <a:r>
                <a:rPr b="0" lang="en-US" sz="1800" spc="-1" strike="noStrike" baseline="30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62200" y="5413320"/>
              <a:ext cx="170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1.02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18120" y="5776920"/>
              <a:ext cx="593640" cy="309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27000" y="5032440"/>
              <a:ext cx="7510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5040" y="1995480"/>
              <a:ext cx="751032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80960" y="162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02400" y="2941560"/>
              <a:ext cx="853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347,6 )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860720" y="3092400"/>
              <a:ext cx="879480" cy="26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12600" y="301140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9040" y="5470560"/>
            <a:ext cx="835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146160" y="152280"/>
            <a:ext cx="8543880" cy="6461280"/>
            <a:chOff x="146160" y="152280"/>
            <a:chExt cx="8543880" cy="6461280"/>
          </a:xfrm>
        </p:grpSpPr>
        <p:grpSp>
          <p:nvGrpSpPr>
            <p:cNvPr id="358" name=""/>
            <p:cNvGrpSpPr/>
            <p:nvPr/>
          </p:nvGrpSpPr>
          <p:grpSpPr>
            <a:xfrm>
              <a:off x="371520" y="152280"/>
              <a:ext cx="8318520" cy="6461280"/>
              <a:chOff x="371520" y="152280"/>
              <a:chExt cx="8318520" cy="6461280"/>
            </a:xfrm>
          </p:grpSpPr>
          <p:pic>
            <p:nvPicPr>
              <p:cNvPr id="359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492200" y="15228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" descr=""/>
              <p:cNvPicPr/>
              <p:nvPr/>
            </p:nvPicPr>
            <p:blipFill>
              <a:blip r:embed="rId2">
                <a:biLevel thresh="50000"/>
              </a:blip>
              <a:stretch/>
            </p:blipFill>
            <p:spPr>
              <a:xfrm>
                <a:off x="1492200" y="216360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1492200" y="4454640"/>
                <a:ext cx="7197840" cy="21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200920" y="493560"/>
                <a:ext cx="113940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36.9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168520" y="2328840"/>
                <a:ext cx="9410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.34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05240" y="4681440"/>
                <a:ext cx="8132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.96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2240" y="835200"/>
                <a:ext cx="1093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1880" y="2722680"/>
                <a:ext cx="1221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71520" y="4983120"/>
                <a:ext cx="1349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146160" y="284040"/>
              <a:ext cx="26827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Symulacja PSp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6160" y="644400"/>
            <a:ext cx="8775720" cy="60008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161320" y="152892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19,2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74000" y="24843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3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13560" y="43419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8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57280" y="847800"/>
            <a:ext cx="3959280" cy="5300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5000" y="1343160"/>
            <a:ext cx="17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AC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01560" y="5484960"/>
            <a:ext cx="134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68160" y="5776920"/>
            <a:ext cx="679680" cy="322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1966680" y="4403520"/>
            <a:ext cx="952200" cy="16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3376080" y="2572920"/>
            <a:ext cx="879480" cy="11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4563720" y="1112760"/>
            <a:ext cx="50796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28720" y="1062000"/>
            <a:ext cx="129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5900400" y="964800"/>
            <a:ext cx="345960" cy="32076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22880" y="5353200"/>
            <a:ext cx="2549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80800" y="933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kład li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17960" y="1274760"/>
            <a:ext cx="766800" cy="333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926480" y="86688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2238480" y="898560"/>
            <a:ext cx="5484960" cy="3379680"/>
            <a:chOff x="2238480" y="898560"/>
            <a:chExt cx="5484960" cy="3379680"/>
          </a:xfrm>
        </p:grpSpPr>
        <p:sp>
          <p:nvSpPr>
            <p:cNvPr id="388" name=""/>
            <p:cNvSpPr/>
            <p:nvPr/>
          </p:nvSpPr>
          <p:spPr>
            <a:xfrm flipV="1">
              <a:off x="2249640" y="92052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38480" y="424512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49640" y="1609560"/>
              <a:ext cx="4511520" cy="2668680"/>
            </a:xfrm>
            <a:custGeom>
              <a:avLst/>
              <a:gdLst/>
              <a:ahLst/>
              <a:rect l="l" t="t" r="r" b="b"/>
              <a:pathLst>
                <a:path w="3389" h="2265">
                  <a:moveTo>
                    <a:pt x="0" y="0"/>
                  </a:moveTo>
                  <a:cubicBezTo>
                    <a:pt x="447" y="3"/>
                    <a:pt x="895" y="7"/>
                    <a:pt x="1192" y="15"/>
                  </a:cubicBezTo>
                  <a:cubicBezTo>
                    <a:pt x="1489" y="23"/>
                    <a:pt x="1636" y="34"/>
                    <a:pt x="1784" y="46"/>
                  </a:cubicBezTo>
                  <a:cubicBezTo>
                    <a:pt x="1932" y="58"/>
                    <a:pt x="2008" y="55"/>
                    <a:pt x="2080" y="85"/>
                  </a:cubicBezTo>
                  <a:cubicBezTo>
                    <a:pt x="2152" y="115"/>
                    <a:pt x="2171" y="121"/>
                    <a:pt x="2213" y="226"/>
                  </a:cubicBezTo>
                  <a:cubicBezTo>
                    <a:pt x="2255" y="331"/>
                    <a:pt x="2292" y="522"/>
                    <a:pt x="2330" y="717"/>
                  </a:cubicBezTo>
                  <a:cubicBezTo>
                    <a:pt x="2368" y="912"/>
                    <a:pt x="2391" y="1160"/>
                    <a:pt x="2439" y="1395"/>
                  </a:cubicBezTo>
                  <a:cubicBezTo>
                    <a:pt x="2487" y="1630"/>
                    <a:pt x="2460" y="1989"/>
                    <a:pt x="2618" y="2127"/>
                  </a:cubicBezTo>
                  <a:cubicBezTo>
                    <a:pt x="2776" y="2265"/>
                    <a:pt x="3229" y="2202"/>
                    <a:pt x="3389" y="2221"/>
                  </a:cubicBezTo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24440" y="3718080"/>
              <a:ext cx="999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94880" y="898560"/>
              <a:ext cx="1017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6160" y="4805280"/>
            <a:ext cx="8777160" cy="124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aka jest typowa zależność wzmocnienia 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ocnienie zawsze maleje przy wzroście poziomu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46160" y="1185840"/>
            <a:ext cx="87724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stawanie drgań wynika z niestabilności wzmacnia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ętego sprzężeniem zwrot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477800" y="2424240"/>
            <a:ext cx="4036320" cy="2891520"/>
            <a:chOff x="1477800" y="2424240"/>
            <a:chExt cx="4036320" cy="2891520"/>
          </a:xfrm>
        </p:grpSpPr>
        <p:sp>
          <p:nvSpPr>
            <p:cNvPr id="398" name=""/>
            <p:cNvSpPr/>
            <p:nvPr/>
          </p:nvSpPr>
          <p:spPr>
            <a:xfrm>
              <a:off x="3333240" y="2424240"/>
              <a:ext cx="1320840" cy="107172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12040" y="2784600"/>
              <a:ext cx="188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50880" y="4248000"/>
              <a:ext cx="1320840" cy="10677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92400" y="4593240"/>
              <a:ext cx="197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872440" y="2689200"/>
              <a:ext cx="108720" cy="583200"/>
              <a:chOff x="2872440" y="2689200"/>
              <a:chExt cx="108720" cy="583200"/>
            </a:xfrm>
          </p:grpSpPr>
          <p:sp>
            <p:nvSpPr>
              <p:cNvPr id="403" name=""/>
              <p:cNvSpPr/>
              <p:nvPr/>
            </p:nvSpPr>
            <p:spPr>
              <a:xfrm flipV="1">
                <a:off x="2924640" y="2689200"/>
                <a:ext cx="2160" cy="583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872440" y="2689200"/>
                <a:ext cx="108720" cy="110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50"/>
                    </a:moveTo>
                    <a:lnTo>
                      <a:pt x="24" y="0"/>
                    </a:lnTo>
                    <a:lnTo>
                      <a:pt x="0" y="5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1671840" y="2594160"/>
              <a:ext cx="166140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658600" y="3352680"/>
              <a:ext cx="674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001600" y="5192280"/>
              <a:ext cx="1342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62920" y="3363840"/>
              <a:ext cx="2160" cy="100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1667160" y="3500640"/>
              <a:ext cx="34056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658240" y="4365360"/>
              <a:ext cx="700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75760" y="2890440"/>
              <a:ext cx="329760" cy="340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32640" y="29325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68720" y="3038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55600" y="2784600"/>
              <a:ext cx="335880" cy="344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07800" y="2826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64040" y="2932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08080" y="3511440"/>
              <a:ext cx="2160" cy="168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2097360" y="3675600"/>
              <a:ext cx="486360" cy="112320"/>
              <a:chOff x="2097360" y="3675600"/>
              <a:chExt cx="486360" cy="112320"/>
            </a:xfrm>
          </p:grpSpPr>
          <p:sp>
            <p:nvSpPr>
              <p:cNvPr id="419" name=""/>
              <p:cNvSpPr/>
              <p:nvPr/>
            </p:nvSpPr>
            <p:spPr>
              <a:xfrm>
                <a:off x="2097360" y="3735000"/>
                <a:ext cx="4863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097360" y="3675600"/>
                <a:ext cx="108720" cy="1123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0"/>
                    </a:moveTo>
                    <a:lnTo>
                      <a:pt x="0" y="27"/>
                    </a:lnTo>
                    <a:lnTo>
                      <a:pt x="5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2191680" y="3314880"/>
              <a:ext cx="329040" cy="360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32720" y="3357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90040" y="3462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63120" y="3352680"/>
              <a:ext cx="2160" cy="997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71720" y="2540880"/>
              <a:ext cx="8424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76400" y="4349880"/>
              <a:ext cx="492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54440" y="3352680"/>
              <a:ext cx="514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4671720" y="5161320"/>
              <a:ext cx="8380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06200" y="2549880"/>
              <a:ext cx="3960" cy="261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4907520" y="2656080"/>
              <a:ext cx="108720" cy="563040"/>
              <a:chOff x="4907520" y="2656080"/>
              <a:chExt cx="108720" cy="563040"/>
            </a:xfrm>
          </p:grpSpPr>
          <p:sp>
            <p:nvSpPr>
              <p:cNvPr id="431" name=""/>
              <p:cNvSpPr/>
              <p:nvPr/>
            </p:nvSpPr>
            <p:spPr>
              <a:xfrm flipV="1">
                <a:off x="4959720" y="2656080"/>
                <a:ext cx="2160" cy="56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907520" y="2656080"/>
                <a:ext cx="108720" cy="11268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51"/>
                    </a:moveTo>
                    <a:lnTo>
                      <a:pt x="24" y="0"/>
                    </a:lnTo>
                    <a:lnTo>
                      <a:pt x="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5023440" y="2761920"/>
              <a:ext cx="349560" cy="35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75640" y="2810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32960" y="2917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77800" y="2848320"/>
              <a:ext cx="399240" cy="408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55920" y="3012120"/>
              <a:ext cx="10044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55920" y="3049920"/>
              <a:ext cx="100440" cy="9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67160" y="3012120"/>
              <a:ext cx="9828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67160" y="2981160"/>
              <a:ext cx="98280" cy="9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671840" y="2594160"/>
              <a:ext cx="1800" cy="247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1671840" y="3246120"/>
              <a:ext cx="1800" cy="24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949040" y="2833200"/>
              <a:ext cx="121680" cy="481320"/>
              <a:chOff x="1949040" y="2833200"/>
              <a:chExt cx="121680" cy="481320"/>
            </a:xfrm>
          </p:grpSpPr>
          <p:sp>
            <p:nvSpPr>
              <p:cNvPr id="444" name=""/>
              <p:cNvSpPr/>
              <p:nvPr/>
            </p:nvSpPr>
            <p:spPr>
              <a:xfrm>
                <a:off x="2007720" y="2833200"/>
                <a:ext cx="2160" cy="481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949040" y="2833200"/>
                <a:ext cx="121680" cy="11448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56" y="52"/>
                    </a:moveTo>
                    <a:lnTo>
                      <a:pt x="27" y="0"/>
                    </a:lnTo>
                    <a:lnTo>
                      <a:pt x="0" y="5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2883240" y="2556360"/>
              <a:ext cx="72000" cy="684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8324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03040" y="4334400"/>
              <a:ext cx="69480" cy="61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18320" y="25077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33800" y="431640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48920" y="5130000"/>
              <a:ext cx="74160" cy="619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1832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20320" y="5161320"/>
              <a:ext cx="6768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931000" y="2717640"/>
                <a:ext cx="2798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    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5978520" y="4143240"/>
                <a:ext cx="213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89280" y="969840"/>
            <a:ext cx="68511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kład staje się niestabilny przy spełnieniu warunku, nazy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runkiem generacj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709560" y="2205000"/>
            <a:ext cx="7677000" cy="429840"/>
            <a:chOff x="709560" y="2205000"/>
            <a:chExt cx="7677000" cy="429840"/>
          </a:xfrm>
        </p:grpSpPr>
        <p:grpSp>
          <p:nvGrpSpPr>
            <p:cNvPr id="460" name=""/>
            <p:cNvGrpSpPr/>
            <p:nvPr/>
          </p:nvGrpSpPr>
          <p:grpSpPr>
            <a:xfrm>
              <a:off x="709560" y="2205000"/>
              <a:ext cx="7677000" cy="429840"/>
              <a:chOff x="709560" y="2205000"/>
              <a:chExt cx="7677000" cy="429840"/>
            </a:xfrm>
          </p:grpSpPr>
          <mc:AlternateContent>
            <mc:Choice xmlns:a14="http://schemas.microsoft.com/office/drawing/2010/main" Requires="a14">
              <p:sp>
                <p:nvSpPr>
                  <p:cNvPr id="461" name=""/>
                  <p:cNvSpPr txBox="1"/>
                  <p:nvPr/>
                </p:nvSpPr>
                <p:spPr>
                  <a:xfrm>
                    <a:off x="709560" y="2220120"/>
                    <a:ext cx="1099440" cy="41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62" name=""/>
                  <p:cNvSpPr txBox="1"/>
                  <p:nvPr/>
                </p:nvSpPr>
                <p:spPr>
                  <a:xfrm>
                    <a:off x="2930400" y="2205000"/>
                    <a:ext cx="5456160" cy="42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j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63" name=""/>
            <p:cNvSpPr/>
            <p:nvPr/>
          </p:nvSpPr>
          <p:spPr>
            <a:xfrm>
              <a:off x="2017800" y="240192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146160" y="3273480"/>
            <a:ext cx="8638920" cy="2117160"/>
            <a:chOff x="146160" y="3273480"/>
            <a:chExt cx="8638920" cy="2117160"/>
          </a:xfrm>
        </p:grpSpPr>
        <p:sp>
          <p:nvSpPr>
            <p:cNvPr id="465" name=""/>
            <p:cNvSpPr/>
            <p:nvPr/>
          </p:nvSpPr>
          <p:spPr>
            <a:xfrm>
              <a:off x="146160" y="4190760"/>
              <a:ext cx="3736800" cy="1199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561960" y="4821120"/>
                  <a:ext cx="7920000" cy="44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                   </m:t>
                      </m:r>
                      <m:r>
                        <m:rPr>
                          <m:lit/>
                          <m:nor/>
                        </m:rPr>
                        <m:t xml:space="preserve">I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  </m:t>
                      </m:r>
                      <m:r>
                        <m:rPr>
                          <m:lit/>
                          <m:nor/>
                        </m:rPr>
                        <m:t xml:space="preserve">lub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7" name=""/>
            <p:cNvSpPr/>
            <p:nvPr/>
          </p:nvSpPr>
          <p:spPr>
            <a:xfrm>
              <a:off x="185040" y="4317840"/>
              <a:ext cx="367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- wzmocni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90280" y="3273480"/>
              <a:ext cx="3091680" cy="398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ąd wynikają dwa warunk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4157640" y="4190760"/>
              <a:ext cx="4627440" cy="1199880"/>
              <a:chOff x="4157640" y="4190760"/>
              <a:chExt cx="4627440" cy="1199880"/>
            </a:xfrm>
          </p:grpSpPr>
          <p:sp>
            <p:nvSpPr>
              <p:cNvPr id="470" name=""/>
              <p:cNvSpPr/>
              <p:nvPr/>
            </p:nvSpPr>
            <p:spPr>
              <a:xfrm>
                <a:off x="4888440" y="4323960"/>
                <a:ext cx="308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arunek fazy - częstotliwoś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157640" y="4190760"/>
                <a:ext cx="4627440" cy="119988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46160" y="795240"/>
            <a:ext cx="868680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by układ wzmacniacza był rzeczywiście liniowy, to ścisłe spełnienie warunku  byłoby trudne (a nawet niemożliwe), ze względu na rozrzuty i fluktuacje parametrów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ek generacji jest zatem zastępowany warunkiem silniejszym, zapewniającym wzbudzenie drgań w początkowym punkcie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722760" y="3465360"/>
                <a:ext cx="1528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1676520" y="4538520"/>
            <a:ext cx="508176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ie ulega tylko warunek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86200" y="1531800"/>
            <a:ext cx="8539920" cy="3020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e warunki generacji umożliwiają określ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zy generator się wzbu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ich pomocy nie da się określić amplitudy generowanych drga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reślenie amplitudy drgań umożliwia (w przybliżeni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eliniowa teoria gener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146160" y="1177920"/>
            <a:ext cx="8673840" cy="54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934920" y="727200"/>
            <a:ext cx="2909880" cy="11635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754200" y="3773520"/>
            <a:ext cx="800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846000" y="3561840"/>
            <a:ext cx="0" cy="211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2000" y="3562200"/>
            <a:ext cx="42674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76640" y="356400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329000" y="3551400"/>
            <a:ext cx="0" cy="2221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61080" y="3575160"/>
            <a:ext cx="0" cy="21096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468760" y="853920"/>
            <a:ext cx="3130560" cy="22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6720" y="928800"/>
            <a:ext cx="960120" cy="769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101720" y="1063800"/>
            <a:ext cx="188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99320" y="2238480"/>
            <a:ext cx="960480" cy="766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125840" y="2362320"/>
            <a:ext cx="197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451560" y="1119240"/>
            <a:ext cx="79560" cy="419040"/>
            <a:chOff x="6451560" y="1119240"/>
            <a:chExt cx="79560" cy="419040"/>
          </a:xfrm>
        </p:grpSpPr>
        <p:sp>
          <p:nvSpPr>
            <p:cNvPr id="495" name=""/>
            <p:cNvSpPr/>
            <p:nvPr/>
          </p:nvSpPr>
          <p:spPr>
            <a:xfrm flipV="1">
              <a:off x="6489720" y="1119240"/>
              <a:ext cx="1800" cy="419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51560" y="111924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50"/>
                  </a:moveTo>
                  <a:lnTo>
                    <a:pt x="24" y="0"/>
                  </a:lnTo>
                  <a:lnTo>
                    <a:pt x="0" y="50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578560" y="1050840"/>
            <a:ext cx="1208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295680" y="1595520"/>
            <a:ext cx="490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818320" y="2916360"/>
            <a:ext cx="976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99280" y="1603440"/>
            <a:ext cx="1440" cy="718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575320" y="1701720"/>
            <a:ext cx="2476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295680" y="2322360"/>
            <a:ext cx="509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72320" y="1263600"/>
            <a:ext cx="239400" cy="2444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13360" y="1293840"/>
            <a:ext cx="1242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2720" y="137016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12040" y="1187280"/>
            <a:ext cx="24444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549840" y="121752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63600" y="129384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823000" y="1709640"/>
            <a:ext cx="1440" cy="1206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888160" y="1827360"/>
            <a:ext cx="353880" cy="80640"/>
            <a:chOff x="5888160" y="1827360"/>
            <a:chExt cx="353880" cy="80640"/>
          </a:xfrm>
        </p:grpSpPr>
        <p:sp>
          <p:nvSpPr>
            <p:cNvPr id="511" name=""/>
            <p:cNvSpPr/>
            <p:nvPr/>
          </p:nvSpPr>
          <p:spPr>
            <a:xfrm>
              <a:off x="5888160" y="1869840"/>
              <a:ext cx="353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88160" y="1827360"/>
              <a:ext cx="7920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0"/>
                  </a:moveTo>
                  <a:lnTo>
                    <a:pt x="0" y="27"/>
                  </a:lnTo>
                  <a:lnTo>
                    <a:pt x="5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5956200" y="1568520"/>
            <a:ext cx="239760" cy="2588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86080" y="15987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100560" y="1674720"/>
            <a:ext cx="113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116920" y="1595520"/>
            <a:ext cx="1440" cy="716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759800" y="1012680"/>
            <a:ext cx="6127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763040" y="2311560"/>
            <a:ext cx="3585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746840" y="1595520"/>
            <a:ext cx="374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7759440" y="2894040"/>
            <a:ext cx="609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366040" y="1019160"/>
            <a:ext cx="3240" cy="1874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7931160" y="1095480"/>
            <a:ext cx="79200" cy="404640"/>
            <a:chOff x="7931160" y="1095480"/>
            <a:chExt cx="79200" cy="404640"/>
          </a:xfrm>
        </p:grpSpPr>
        <p:sp>
          <p:nvSpPr>
            <p:cNvPr id="523" name=""/>
            <p:cNvSpPr/>
            <p:nvPr/>
          </p:nvSpPr>
          <p:spPr>
            <a:xfrm flipV="1">
              <a:off x="7968960" y="1095480"/>
              <a:ext cx="1440" cy="40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31160" y="1095480"/>
              <a:ext cx="7920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51"/>
                  </a:moveTo>
                  <a:lnTo>
                    <a:pt x="24" y="0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8015400" y="1171440"/>
            <a:ext cx="253800" cy="252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53200" y="12063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166960" y="128268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37080" y="1233360"/>
            <a:ext cx="290520" cy="2937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4320" y="1351080"/>
            <a:ext cx="730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494320" y="1378080"/>
            <a:ext cx="73080" cy="68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5320" y="1351080"/>
            <a:ext cx="712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75320" y="1328760"/>
            <a:ext cx="71280" cy="71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578560" y="1050840"/>
            <a:ext cx="1440" cy="177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578560" y="1519200"/>
            <a:ext cx="1440" cy="179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780160" y="1222200"/>
            <a:ext cx="88920" cy="345960"/>
            <a:chOff x="5780160" y="1222200"/>
            <a:chExt cx="88920" cy="345960"/>
          </a:xfrm>
        </p:grpSpPr>
        <p:sp>
          <p:nvSpPr>
            <p:cNvPr id="536" name=""/>
            <p:cNvSpPr/>
            <p:nvPr/>
          </p:nvSpPr>
          <p:spPr>
            <a:xfrm>
              <a:off x="5823000" y="1222200"/>
              <a:ext cx="1800" cy="34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80160" y="12222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56" y="52"/>
                  </a:moveTo>
                  <a:lnTo>
                    <a:pt x="27" y="0"/>
                  </a:lnTo>
                  <a:lnTo>
                    <a:pt x="0" y="52"/>
                  </a:lnTo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459480" y="1023840"/>
            <a:ext cx="52560" cy="4932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594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73880" y="2300400"/>
            <a:ext cx="50760" cy="442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39080" y="98892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50240" y="2287440"/>
            <a:ext cx="5220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961400" y="2871720"/>
            <a:ext cx="54000" cy="446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9390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86480" y="2894040"/>
            <a:ext cx="4932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7326360" y="1463760"/>
            <a:ext cx="0" cy="210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326360" y="275112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19000" y="311148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787400" y="244944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36760" y="2016000"/>
            <a:ext cx="89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8080" y="1359000"/>
            <a:ext cx="112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0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91400" y="132228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6960" y="14209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640" y="312120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367360" y="373536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34200" y="370692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13720" y="25192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86280" y="1941480"/>
            <a:ext cx="0" cy="41958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338560" y="4986360"/>
            <a:ext cx="249840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4328640" y="4429080"/>
            <a:ext cx="54468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63680" y="3798720"/>
            <a:ext cx="0" cy="1224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30800" y="3724200"/>
            <a:ext cx="0" cy="8082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952720" y="501804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4403880" y="447660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242040" y="3216240"/>
                <a:ext cx="2065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960840" y="5329080"/>
            <a:ext cx="3815640" cy="714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pl-PL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miana fazy  we wzmacniac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na np. zmianą temper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861480" y="3868560"/>
            <a:ext cx="320760" cy="1546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87640" y="4468680"/>
            <a:ext cx="3024720" cy="1058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ompensacja zmiany f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a prz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wód rezonans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4379400" y="3794040"/>
            <a:ext cx="1141560" cy="105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822400" y="4127040"/>
            <a:ext cx="2874960" cy="863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4851000" y="3816000"/>
            <a:ext cx="723960" cy="963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9800" y="3533760"/>
            <a:ext cx="341280" cy="122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2351160" y="3695400"/>
            <a:ext cx="241200" cy="214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3900600" y="3753000"/>
            <a:ext cx="284040" cy="179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30720" y="4651200"/>
            <a:ext cx="2062800" cy="307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zestrojenie generat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896080" y="130320"/>
                <a:ext cx="241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5275440" y="212760"/>
            <a:ext cx="439560" cy="87120"/>
          </a:xfrm>
          <a:prstGeom prst="rightArrow">
            <a:avLst>
              <a:gd name="adj1" fmla="val 50000"/>
              <a:gd name="adj2" fmla="val 1261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89760" y="75240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0840" y="5060880"/>
            <a:ext cx="864720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rgania sinusoidalne (harmoniczne) są uważane za podstawowy rodzaj drgań fizycznych. Idealny generator drgań sinusoidaln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D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powinien wytwarzać napięcie/prad opisywane funkcj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600280" y="6203880"/>
                <a:ext cx="38210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6160" y="826920"/>
            <a:ext cx="8713800" cy="3564000"/>
            <a:chOff x="146160" y="826920"/>
            <a:chExt cx="8713800" cy="3564000"/>
          </a:xfrm>
        </p:grpSpPr>
        <p:sp>
          <p:nvSpPr>
            <p:cNvPr id="116" name=""/>
            <p:cNvSpPr/>
            <p:nvPr/>
          </p:nvSpPr>
          <p:spPr>
            <a:xfrm>
              <a:off x="2355840" y="826920"/>
              <a:ext cx="2658960" cy="137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03360" y="3057480"/>
              <a:ext cx="25354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11520" y="219708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948040" y="2150640"/>
              <a:ext cx="0" cy="8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680" y="1114560"/>
              <a:ext cx="1719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6160" y="3375000"/>
              <a:ext cx="20746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5394240" y="1649520"/>
              <a:ext cx="3465720" cy="2457360"/>
            </a:xfrm>
            <a:prstGeom prst="rect">
              <a:avLst/>
            </a:prstGeom>
            <a:ln w="19080">
              <a:solidFill>
                <a:srgbClr val="ff00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439560" y="716040"/>
            <a:ext cx="8169120" cy="5397480"/>
            <a:chOff x="439560" y="716040"/>
            <a:chExt cx="8169120" cy="5397480"/>
          </a:xfrm>
        </p:grpSpPr>
        <p:pic>
          <p:nvPicPr>
            <p:cNvPr id="582" name="" descr=""/>
            <p:cNvPicPr/>
            <p:nvPr/>
          </p:nvPicPr>
          <p:blipFill>
            <a:blip r:embed="rId1"/>
            <a:stretch/>
          </p:blipFill>
          <p:spPr>
            <a:xfrm>
              <a:off x="439560" y="974880"/>
              <a:ext cx="816912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5334120" y="1455840"/>
              <a:ext cx="126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00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76600" y="3067200"/>
              <a:ext cx="10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2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916520" y="389592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5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44880" y="461340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1228320" y="716040"/>
              <a:ext cx="2909880" cy="116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406440" y="2190600"/>
            <a:ext cx="8366040" cy="80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Im większa wypadkowa dobroć Q obwodu (większa R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, tym więks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nachylenie charakterystyki fazowej i tym większa stałość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07280" y="73512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wrócenie” fazy w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367680" y="971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wód typu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17720" y="144792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2560" y="167472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1741320" y="674640"/>
            <a:ext cx="4476960" cy="1505160"/>
            <a:chOff x="1741320" y="674640"/>
            <a:chExt cx="4476960" cy="1505160"/>
          </a:xfrm>
        </p:grpSpPr>
        <p:pic>
          <p:nvPicPr>
            <p:cNvPr id="596" name="" descr=""/>
            <p:cNvPicPr/>
            <p:nvPr/>
          </p:nvPicPr>
          <p:blipFill>
            <a:blip r:embed="rId1"/>
            <a:stretch/>
          </p:blipFill>
          <p:spPr>
            <a:xfrm>
              <a:off x="1741320" y="674640"/>
              <a:ext cx="44769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453400" y="787320"/>
              <a:ext cx="36828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1195560" y="2193840"/>
            <a:ext cx="6800760" cy="444816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0" y="2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układy oscyla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320" y="838080"/>
            <a:ext cx="9067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teorii wynika, że dla powstania i utrzymania się drgań niegasnących muszą być spełnione odpowiednie warunki amplitudy i fazy. Podstawiając konkretne elementy indukcyjne i pojemnościowe do układu ogólnego,  otrzymuje się układy podstawowe: Colpittsa i Hartleya. Różnią się one sposobem podziału napięcia. Poza tymi układami jedno tranzystorowymi oscylacje można wzbudzać w układzie Meissnera, w którym odwrócenie fazy uzyskuje się przy pomocy transformatora. Na schematach, dla narzucenia warunków fazowych, kropką oznacza się początki uzwojeń, robiąc jednocześnie założenie, że wszystkie uzwojenia nawijane są w jednym kierunku. W oscylatorze Meissnera częstotliwość generacji narzucona jest przez obwód rezonansowy włączony w obwód kolektora lub bazy. Układ Meissnera był swego czasu często stosowany w radiach lampowych, ze względu na korzystne rozwiązania układowe. Przeważnie układy tego typu pracują do ok. 150 MHz, lecz ze względu na szereg wad własnych, w tym konieczności przebudowywania transformatora podczas strojenia, układu tego nie stosuje się w nadajnikach. Wszędzie tam gdzie zachodzi potrzeba generacji stabilnego przebiegu bardzo wielkiej częstotliwości, stosuje się układy Colpittsa i jego odmia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28600" y="1109520"/>
            <a:ext cx="8915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kazanych schematach pominięto obwody zasilania, polaryzacji, blokowania  i obciążenia, a także nie wyróżniono miejsca obwodu dołączonego do mas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wala to na elastyczną interpretację układu oscylatora i umowne, dowolne dołączenie masy, tworząc układy WE, WB lub W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dstawowych układach Colpittsa i Hartleya stopień sprzężenia z tranzystorem (warunek amplitudy) uzależniony jest od stosunku C2 do C1, względnie L2 do L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układzie Meissnera zależy od stosunku liczby zwojów i wielkości sprzężenia obu cew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28600" y="762120"/>
            <a:ext cx="874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enerator może być przestrajany przez zmianę pojemności lub indukcyjnośc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rzez zmianę indukcyjności jest mniej popularne, choć i ono ma wiele zalet. Przestrajać można wprowadzając do cewki rdzeń ferrytowy, co powoduje zmniejszenie częstotliwości, lub metalowy (aluminium, miedź), co powoduje zwiększenie częstotliwości. Przestrajać można także tarczą miedzianą o zmiennym promieniu, zbliżoną do końca zimnego cewki. Układy te zajmują mniej miejsca niż układy z kondensatorem obrotowym, lecz wymagają indywidualnego wykonania układu napędowego. Ich dalszą zaletą jest łatwość uzyskania skali o kącie 360*, co w układach z kondensatorem zmiennym wymaga stosowania przekład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zestrajaniu pojemnością korzystniejszy jest układ Hartleya,  gdy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czasie przestrajania podział napięcia praktycznie nie ulega zmi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43080" y="1461960"/>
            <a:ext cx="8397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 Hartleya umożliwia stosowanie dużych indukcyjności L i małych pojemności C, a przy dużym stosunku L/C uzyskuje się większą dobroć obwodu.  W oscylatorze Hartleya odczep na cewce wykonuje się na wysokości 1/5 do 1/3 liczby zwojów, licząc od zimnego końca cewki. Konieczność wykonywania odczepów utrudnia optymalizację sprzężenia, a w przypadku przełączania zakresów wymaga dodatkowej sekcji przełącznika. Małe pojemności układu rezonansowego umożliwiają stosowanie warikapów do przestrajania częstotliwości (VC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46160" y="473040"/>
            <a:ext cx="85500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ojemnościowe w oscylatorach Colpittsa wymaga stosowania agregatu złożonego z dwóch kondensatorów zmiennych, co pozwała na utrzymanie stałego stosunku pojemności C2 do C1. Przy małych zakresach przestrajania, jeden z kondensatorów można uczynić stałym, a przestrajać tylko drugi. Można także dołączyć równolegle do cewki kondensator zmienny C2, lecz wtedy należy odpowiednio zmniejszyć i tak już niekorzystnie małą indukcyjność cewki. Pojemności wejściowe i wyjściowe tranzystora dodają się do pojemności obwodu, a ponieważ są one niestałe, wpływają na częstotliwość generacji tym silniej im niniejsza pojemność występuje w dzielniku Colpittsa (C1 /C2). Ponadto rezystancje: wejściowa i wyjściowa i obciążenie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ilnie tłumią obwód rezonansowy, obniżając znacznie dobroć obwodu a tym samym obniżając stałość częstotliwości. Z tych powodów w praktyce najczęściej stosowane są zmodyfikowane układy Colpitt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457200" y="1219320"/>
            <a:ext cx="82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yfikacje poszły w dwóch kierunka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stosunku L/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pojemności dołączonych równoległe 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erwsze działanie zwiększa dobroć układu, a tym samym jego stabilność, a drugie zmniejsza wpływ zmian parametrów tranzystora na pojemność wypadkową obwodu,  a ponadto zmniejsza obciążenie wnoszone przez tranzystor do obwodu rezonansow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80880" y="685800"/>
            <a:ext cx="82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bardziej popularną zmodyfikowaną wersją układu Colpittsa jest układ Clapp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o z cewką L włączona jest stosunkowo mała pojemność Cz, która może być przestraj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niejsza ona pojemność wypadkową obwodu powodując możliwość zwiększenia indukcyjności nawet 3-krotnie w stosunku do układu podstaw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adto pojemność dodatkowa Cz jest trzecim ogniwem dzielnika napięcia, skutkiem czego zmniejsza się sprzężenie obwodu z tranzystor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z nie może być zbyt mała, gdyż następuje zerwanie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dą układu jest znaczna zależność napięcia wyjściowego generatora od pojemności C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562720" y="1066680"/>
                <a:ext cx="2388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081520" y="1886040"/>
            <a:ext cx="4984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zie :    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częstotliwość na początku obserwacj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t) - częstotliwość w chwili t obserw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562720" y="2589120"/>
                <a:ext cx="22478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562720" y="4060800"/>
                <a:ext cx="31795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36040" y="1144440"/>
            <a:ext cx="487188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z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Średnia niestałość częstotliwości w okresie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wartość harmonicznych w sygnale (ws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łość amplitudy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generowanego sygnał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8440" y="326880"/>
            <a:ext cx="835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46160" y="468360"/>
            <a:ext cx="8550000" cy="57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ą układu Clappa jest układ Rakara, który różni się od poprzedniego miejscem połączenia układu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lappa zastosowano układ ze wspólnym kolektorem, zaś w generatorze Rakara układ ze wspólną baz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niejszą zmienność amplitudy przy przestrajaniu uzyskuje się w układzie Seilera w którym, wzorem układu Clappa zastosowano małą pojemność szeregową Cs, lecz jest ona stała, zaś oscylator jest przestrajany kondensatorem Cz dołączonym wprost do cewki.  Jest to najbardziej optymalne rozwiąz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ę tego układu stanowi układ Vack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żni się on od poprzedniego tym, że druga strona kondensatora zmiennego dołączona jest do emitera, który może być także połączony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tym amplituda sygnału jest jeszcze mniej zmien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46160" y="85680"/>
            <a:ext cx="855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śród układów dwu tranzystorowych najczęściej spotyka się układ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ierwszy tranzystor T1 pracuje jako wzmacniacz w klasie A, drugi daje dodatkowe wzmocnienie i odwraca fazę. W wyniku dużego wzmocnienia (które gwarantuje solidny odstęp sygnału od szumu) można stosować bardzo małe pojemności sprzęgające Cs, rzędu pojedynczych p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silniejsze dodatnie sprzężenie zwrotne występuje na częstotliwości rezonansowej obwodu LC i na tej częstotliwości pracuje oscy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ardzo mała pojemność Cs skutecznie izoluje obwód LC od zmiennych parametrów tranzys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y układ LC bardzo ułatwia przełączenie zakres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lejnym układem dwu tranzystorowym jest układ Butlera. Sprzężenie między tranzystorami następuje przez obwód szeregowy LC włączony między emiterami. Układ ten jest często wykorzystywany w oscylatorach kwarcow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46160" y="773280"/>
            <a:ext cx="8997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any przegląd układów VFO wskazuje na to, iż zasady pracy poszczególnych oscylatorów są podob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Żaden z nich nie jest doskonały, jednak na wyróżnienie zasługują układy Clappa i Seilera oraz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em dobrej pracy tych oscylatorów jest przestrzeganie zasad podanych wyż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konkretnych schematach oscylatorów spotyka się często równoległe i szeregowe połączenia kilku kondensatorów zamiast jednego lub dwóch występujących na schematach ogól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e stosowania kondensatorów o różnych TWP oraz dla przestrajania w paśmie przez kondensator zmien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725400" y="228600"/>
            <a:ext cx="71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awiane podstawowe rodzaje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12040" cy="28749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1380960" y="487692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lpitts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artley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eiss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912400" y="58086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ez obwodów zasilani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84720" y="15228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w generatorach “trójpunktowy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955800" y="1003320"/>
            <a:ext cx="3581280" cy="2376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80880" y="3429000"/>
            <a:ext cx="81694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gólny schemat generatorów “trójpunktowych” przedstawiono na rys. w celu ułatwienia analizy będziemy rozpatrywać układ z elementem wzmacniającym nie obciążającym obwodu rezonansowego. Takim elementem jest w przybliżeniu tranzystor polowy T typu JFET.  Obwód rezonansowy  jest reprezentowan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zem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reaktancjami , oraz konduktancją dynamiczną ( poprzednio: 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608280" y="4998960"/>
                <a:ext cx="12956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740040" y="5802480"/>
                <a:ext cx="99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2085840" y="59547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dobrocią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5402160" y="1268280"/>
                <a:ext cx="2548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7967520" y="693720"/>
            <a:ext cx="865440" cy="3747960"/>
          </a:xfrm>
          <a:custGeom>
            <a:avLst/>
            <a:gdLst/>
            <a:ahLst/>
            <a:rect l="l" t="t" r="r" b="b"/>
            <a:pathLst>
              <a:path w="545" h="2361">
                <a:moveTo>
                  <a:pt x="397" y="2361"/>
                </a:moveTo>
                <a:lnTo>
                  <a:pt x="545" y="2041"/>
                </a:lnTo>
                <a:lnTo>
                  <a:pt x="545" y="1675"/>
                </a:lnTo>
                <a:lnTo>
                  <a:pt x="420" y="1051"/>
                </a:lnTo>
                <a:lnTo>
                  <a:pt x="256" y="52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715000" cy="26845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460440" y="493560"/>
            <a:ext cx="8169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założymy, że dobroć Q obwodu jest duża i będziemy analizować układ tylko w bliskim otoczeniu częstotliwości rezonansowe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o układ rezonansowy przedstawia praktycznie tylko konduktancję, ponieważ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013200" y="1868400"/>
                <a:ext cx="2590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>
            <a:off x="936360" y="2550960"/>
            <a:ext cx="7282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spełnieniu w/w warunku układ selektywny można przekształc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477120" y="4361040"/>
                <a:ext cx="1447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6504120" y="3251160"/>
                <a:ext cx="1828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906720" cy="18082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529560" y="53352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 blok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191120" y="457200"/>
                <a:ext cx="3352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4" name=""/>
          <p:cNvSpPr/>
          <p:nvPr/>
        </p:nvSpPr>
        <p:spPr>
          <a:xfrm>
            <a:off x="531360" y="17524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k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141800" y="1595520"/>
                <a:ext cx="2340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6" name=""/>
          <p:cNvSpPr/>
          <p:nvPr/>
        </p:nvSpPr>
        <p:spPr>
          <a:xfrm>
            <a:off x="1204560" y="4495680"/>
            <a:ext cx="70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w postaci granicznej można więc przedstaw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25400" y="4897440"/>
                <a:ext cx="33480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β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800600" y="528804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"/>
          <p:cNvSpPr/>
          <p:nvPr/>
        </p:nvSpPr>
        <p:spPr>
          <a:xfrm>
            <a:off x="4268160" y="53341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4724640" y="3433680"/>
            <a:ext cx="469080" cy="734040"/>
            <a:chOff x="4724640" y="3433680"/>
            <a:chExt cx="469080" cy="734040"/>
          </a:xfrm>
        </p:grpSpPr>
        <p:sp>
          <p:nvSpPr>
            <p:cNvPr id="641" name=""/>
            <p:cNvSpPr/>
            <p:nvPr/>
          </p:nvSpPr>
          <p:spPr>
            <a:xfrm>
              <a:off x="4724640" y="3433680"/>
              <a:ext cx="453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</a:t>
              </a:r>
              <a:r>
                <a:rPr b="1" lang="en-US" sz="20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26800" y="3768840"/>
              <a:ext cx="4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to ma dwa rozwiąza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czym tylko jedno ma sens fizycz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2136600" y="1611360"/>
                <a:ext cx="49690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162160" y="2817720"/>
                <a:ext cx="35053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3564000" y="5002200"/>
                <a:ext cx="1503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2597400" y="4344840"/>
            <a:ext cx="400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bliżeniu, dla dużego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040" y="1641600"/>
            <a:ext cx="53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Colpitts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2590920" y="160020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590920" y="2971800"/>
                <a:ext cx="990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2" name=""/>
          <p:cNvSpPr/>
          <p:nvPr/>
        </p:nvSpPr>
        <p:spPr>
          <a:xfrm>
            <a:off x="678240" y="4495680"/>
            <a:ext cx="52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Hartley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514600" y="439416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514600" y="5791320"/>
                <a:ext cx="1066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705720" y="2971800"/>
                <a:ext cx="1689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629400" y="5867280"/>
                <a:ext cx="1625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6780960" y="838080"/>
            <a:ext cx="185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543800" y="16002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92400" y="838080"/>
            <a:ext cx="264960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amplitu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46160" y="674640"/>
            <a:ext cx="868680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olpittsa  wartość indukcyjności podlega wyborowi, ponieważ brak jest trzeciego równania. Biorąc jednak pod uwagę, że 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winny być w miarę duże, ponieważ dodaje się do nich wszelkiego rodzaju pojemności pasożytnicze, to dla określonej pulsacji , powoduje zmniejszenie indukcyjności L. Jeżeli konduktancja dynamiczna obwodu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rośnie, może to wywołać zaburzenie koniecznych warunków gen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tego, przyjmując dostatecznie duży marg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2398680" y="4267080"/>
                <a:ext cx="3129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,2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2560320" y="5762520"/>
            <a:ext cx="30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my określić wartość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2200" y="1244520"/>
            <a:ext cx="86216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źródła drgań o dużej stałości częstotliwości (wzorce)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budnice nadajni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sygnał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często przestrajane (w tym wobulowane), do celów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rwisowych, pomiarowych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moc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źródła energii o dużej mocy i dużej sprawności energety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owo praca w klasie C lub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 względem rozwiązań układowych GDS dzieli się 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e sprzężeniem zwrotn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elementami o ujemnej rezystancj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ze stabilizacją piezoelektryczną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np. kwarcow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rodzaje generatorów drgań sinusoidalnych (G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441360" y="752400"/>
            <a:ext cx="8702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obnie jest w przypadku dobierania pojemności C w generatorze Hartleya,  z tą różnicą jednaj, że tutaj pojemności bloku wzmacniacza przyczyniają się do utworzenia obwodów rezonansowych (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; 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których zastępcza indukcyjność nie powinna się zbyt dużo różnic od wart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znacza to, że częstotliwości rezonansowe tych obwodó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1300320" y="3849840"/>
                <a:ext cx="55512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6" name=""/>
          <p:cNvSpPr/>
          <p:nvPr/>
        </p:nvSpPr>
        <p:spPr>
          <a:xfrm>
            <a:off x="129960" y="5165640"/>
            <a:ext cx="70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inny kilkakrotnie przewyższać częstotliwość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 generacji dl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2280" y="6095880"/>
            <a:ext cx="86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del generatora Meissera: a) układ z rozciętą pętlą sprzężenia zwrotnego w obwodzie bramki, b) model liniowy układ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80880" y="990720"/>
            <a:ext cx="8534520" cy="4979880"/>
            <a:chOff x="380880" y="990720"/>
            <a:chExt cx="8534520" cy="4979880"/>
          </a:xfrm>
        </p:grpSpPr>
        <p:sp>
          <p:nvSpPr>
            <p:cNvPr id="671" name=""/>
            <p:cNvSpPr/>
            <p:nvPr/>
          </p:nvSpPr>
          <p:spPr>
            <a:xfrm>
              <a:off x="380880" y="990720"/>
              <a:ext cx="8534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Schemat do określania warunków generacji w układach Meissera przedstawiono na rysunku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ętlę sprzężenia rozcięto na wejściu wzmacniacza w celu uwypuklenia podziału na bloki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Zakładamy, że tranzystor ma na tyle dużą częstotliwość graniczną, że nie wprowadza dodatkowego przesunięcia fazy oraz  że znajdujemy się blisko częstotliwości rezonansowej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2" name=""/>
                <p:cNvSpPr txBox="1"/>
                <p:nvPr/>
              </p:nvSpPr>
              <p:spPr>
                <a:xfrm>
                  <a:off x="3657600" y="2971800"/>
                  <a:ext cx="137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3" name=""/>
            <p:cNvSpPr/>
            <p:nvPr/>
          </p:nvSpPr>
          <p:spPr>
            <a:xfrm>
              <a:off x="677520" y="3657600"/>
              <a:ext cx="666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zięki temu sam obwód LC został zastąpiony rezystancją dynamiczn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990720" y="3962520"/>
              <a:ext cx="7391160" cy="2008080"/>
              <a:chOff x="990720" y="3962520"/>
              <a:chExt cx="7391160" cy="2008080"/>
            </a:xfrm>
          </p:grpSpPr>
          <p:pic>
            <p:nvPicPr>
              <p:cNvPr id="6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3962520"/>
                <a:ext cx="7391160" cy="20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2470320" y="4179960"/>
                <a:ext cx="1657080" cy="171288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705400" y="4259160"/>
                <a:ext cx="1020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Q, R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, 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8" name=""/>
                <p:cNvSpPr txBox="1"/>
                <p:nvPr/>
              </p:nvSpPr>
              <p:spPr>
                <a:xfrm>
                  <a:off x="7410600" y="3546360"/>
                  <a:ext cx="10666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146160" y="344520"/>
            <a:ext cx="87627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 zastąpieniu tranzystora jego najprostszym modelem w postaci sterowanego napięciem źródła prądowego o transkonduktancji 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transformatora elementem idealnym o przekładn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uzyskujemy model zastępc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ł wzmocnienia pętli rozciętej, zwany współczynnikiem regeneracji k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można przedstawić w post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1400" y="3206880"/>
                <a:ext cx="27399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kβ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146160" y="4502160"/>
            <a:ext cx="8705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 przyrównaniu równania do jedności uzyskujemy warunek amplitudy w postaci granicznej, z którego możemy wyznaczyć przekładnię n  transform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46160" y="1365120"/>
            <a:ext cx="8464320" cy="3986280"/>
            <a:chOff x="146160" y="1365120"/>
            <a:chExt cx="8464320" cy="3986280"/>
          </a:xfrm>
        </p:grpSpPr>
        <mc:AlternateContent>
          <mc:Choice xmlns:a14="http://schemas.microsoft.com/office/drawing/2010/main" Requires="a14">
            <p:sp>
              <p:nvSpPr>
                <p:cNvPr id="684" name=""/>
                <p:cNvSpPr txBox="1"/>
                <p:nvPr/>
              </p:nvSpPr>
              <p:spPr>
                <a:xfrm>
                  <a:off x="7061040" y="2903400"/>
                  <a:ext cx="1549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5" name=""/>
            <p:cNvSpPr/>
            <p:nvPr/>
          </p:nvSpPr>
          <p:spPr>
            <a:xfrm>
              <a:off x="3757320" y="1365120"/>
              <a:ext cx="3596040" cy="70380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Generator Clap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jest odmianą generatora Colpitt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6" name=""/>
            <p:cNvGraphicFramePr/>
            <p:nvPr/>
          </p:nvGraphicFramePr>
          <p:xfrm>
            <a:off x="146160" y="2631960"/>
            <a:ext cx="2577960" cy="248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160" y="2631960"/>
                      <a:ext cx="2577960" cy="248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8" name=""/>
            <p:cNvGrpSpPr/>
            <p:nvPr/>
          </p:nvGrpSpPr>
          <p:grpSpPr>
            <a:xfrm>
              <a:off x="3097080" y="2351160"/>
              <a:ext cx="3859200" cy="3000240"/>
              <a:chOff x="3097080" y="2351160"/>
              <a:chExt cx="3859200" cy="3000240"/>
            </a:xfrm>
          </p:grpSpPr>
          <p:pic>
            <p:nvPicPr>
              <p:cNvPr id="6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98800" y="2351160"/>
                <a:ext cx="3057480" cy="3000240"/>
              </a:xfrm>
              <a:prstGeom prst="rect">
                <a:avLst/>
              </a:prstGeom>
              <a:ln w="19080">
                <a:solidFill>
                  <a:srgbClr val="008000"/>
                </a:solidFill>
                <a:miter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4605480" y="2592360"/>
                <a:ext cx="1763640" cy="128520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097080" y="3576600"/>
                <a:ext cx="743040" cy="185040"/>
              </a:xfrm>
              <a:prstGeom prst="rightArrow">
                <a:avLst>
                  <a:gd name="adj1" fmla="val 50000"/>
                  <a:gd name="adj2" fmla="val 100389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2" name=""/>
          <p:cNvSpPr/>
          <p:nvPr/>
        </p:nvSpPr>
        <p:spPr>
          <a:xfrm>
            <a:off x="501840" y="5624640"/>
            <a:ext cx="8069040" cy="87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acznie większa stałość częstotliwości niż generatora Colpitt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mała L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52280" y="1384200"/>
            <a:ext cx="899172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generacja jest możliwa tylko dla częstotliwości większej od częstotliwości rezonansu szeregowego obwodu L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wód ten pełni wówczas rolę indukcyjn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 wartości silnie rosnącej ze wzrostem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obiera się znacznie większe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 to, aby wypadkowa pojemność, wynikająca z szeregowego połączenia pojemnośc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była niewiele mniejsza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wartość elementów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L są znacznie większe od swoich odpowiedników  w generatorze Colpittsa, dlatego wpływ pojemności tranzystora jest mniejszy, stąd wynika większa stałość generowanej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73600" y="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0" y="1419120"/>
          <a:ext cx="914400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9120"/>
                    <a:ext cx="91440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2085840" y="1252440"/>
          <a:ext cx="448164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1252440"/>
                    <a:ext cx="44816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Hartleya z zasilaniem przez opor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tzw. „automatycznym minuse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773280" y="1633680"/>
            <a:ext cx="7718400" cy="4736520"/>
            <a:chOff x="773280" y="1633680"/>
            <a:chExt cx="7718400" cy="4736520"/>
          </a:xfrm>
        </p:grpSpPr>
        <p:grpSp>
          <p:nvGrpSpPr>
            <p:cNvPr id="703" name=""/>
            <p:cNvGrpSpPr/>
            <p:nvPr/>
          </p:nvGrpSpPr>
          <p:grpSpPr>
            <a:xfrm>
              <a:off x="773280" y="1633680"/>
              <a:ext cx="4948200" cy="4195800"/>
              <a:chOff x="773280" y="1633680"/>
              <a:chExt cx="4948200" cy="419580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773280" y="1633680"/>
                <a:ext cx="4948200" cy="4195800"/>
                <a:chOff x="773280" y="1633680"/>
                <a:chExt cx="4948200" cy="419580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773280" y="1633680"/>
                  <a:ext cx="4948200" cy="4195800"/>
                  <a:chOff x="773280" y="1633680"/>
                  <a:chExt cx="4948200" cy="419580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>
                    <a:off x="1395720" y="3822840"/>
                    <a:ext cx="3290760" cy="196704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707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73280" y="1633680"/>
                    <a:ext cx="49482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08" name=""/>
                <p:cNvSpPr/>
                <p:nvPr/>
              </p:nvSpPr>
              <p:spPr>
                <a:xfrm>
                  <a:off x="2151000" y="2413080"/>
                  <a:ext cx="0" cy="98892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622520" y="2419560"/>
                  <a:ext cx="365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pl-PL" sz="2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 flipV="1">
                <a:off x="2532240" y="4256280"/>
                <a:ext cx="0" cy="1014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5753160" y="3327480"/>
              <a:ext cx="2738520" cy="3042720"/>
              <a:chOff x="5753160" y="3327480"/>
              <a:chExt cx="2738520" cy="3042720"/>
            </a:xfrm>
          </p:grpSpPr>
          <p:sp>
            <p:nvSpPr>
              <p:cNvPr id="712" name=""/>
              <p:cNvSpPr/>
              <p:nvPr/>
            </p:nvSpPr>
            <p:spPr>
              <a:xfrm flipV="1">
                <a:off x="5765760" y="3649680"/>
                <a:ext cx="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753160" y="4849560"/>
                <a:ext cx="270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765760" y="3668760"/>
                <a:ext cx="1568520" cy="699840"/>
              </a:xfrm>
              <a:custGeom>
                <a:avLst/>
                <a:gdLst/>
                <a:ahLst/>
                <a:rect l="l" t="t" r="r" b="b"/>
                <a:pathLst>
                  <a:path w="988" h="441">
                    <a:moveTo>
                      <a:pt x="0" y="322"/>
                    </a:moveTo>
                    <a:cubicBezTo>
                      <a:pt x="31" y="219"/>
                      <a:pt x="62" y="116"/>
                      <a:pt x="88" y="74"/>
                    </a:cubicBezTo>
                    <a:cubicBezTo>
                      <a:pt x="114" y="32"/>
                      <a:pt x="135" y="29"/>
                      <a:pt x="156" y="70"/>
                    </a:cubicBezTo>
                    <a:cubicBezTo>
                      <a:pt x="177" y="111"/>
                      <a:pt x="198" y="266"/>
                      <a:pt x="212" y="322"/>
                    </a:cubicBezTo>
                    <a:cubicBezTo>
                      <a:pt x="226" y="378"/>
                      <a:pt x="228" y="396"/>
                      <a:pt x="241" y="409"/>
                    </a:cubicBezTo>
                    <a:cubicBezTo>
                      <a:pt x="254" y="422"/>
                      <a:pt x="280" y="414"/>
                      <a:pt x="292" y="400"/>
                    </a:cubicBezTo>
                    <a:cubicBezTo>
                      <a:pt x="304" y="386"/>
                      <a:pt x="298" y="384"/>
                      <a:pt x="316" y="326"/>
                    </a:cubicBezTo>
                    <a:cubicBezTo>
                      <a:pt x="334" y="268"/>
                      <a:pt x="372" y="63"/>
                      <a:pt x="400" y="50"/>
                    </a:cubicBezTo>
                    <a:cubicBezTo>
                      <a:pt x="428" y="37"/>
                      <a:pt x="462" y="195"/>
                      <a:pt x="481" y="250"/>
                    </a:cubicBezTo>
                    <a:cubicBezTo>
                      <a:pt x="500" y="305"/>
                      <a:pt x="497" y="356"/>
                      <a:pt x="514" y="379"/>
                    </a:cubicBezTo>
                    <a:cubicBezTo>
                      <a:pt x="531" y="402"/>
                      <a:pt x="562" y="441"/>
                      <a:pt x="586" y="388"/>
                    </a:cubicBezTo>
                    <a:cubicBezTo>
                      <a:pt x="610" y="335"/>
                      <a:pt x="637" y="101"/>
                      <a:pt x="660" y="62"/>
                    </a:cubicBezTo>
                    <a:cubicBezTo>
                      <a:pt x="683" y="23"/>
                      <a:pt x="706" y="99"/>
                      <a:pt x="724" y="151"/>
                    </a:cubicBezTo>
                    <a:cubicBezTo>
                      <a:pt x="742" y="203"/>
                      <a:pt x="747" y="338"/>
                      <a:pt x="769" y="376"/>
                    </a:cubicBezTo>
                    <a:cubicBezTo>
                      <a:pt x="791" y="414"/>
                      <a:pt x="827" y="433"/>
                      <a:pt x="856" y="379"/>
                    </a:cubicBezTo>
                    <a:cubicBezTo>
                      <a:pt x="885" y="325"/>
                      <a:pt x="922" y="108"/>
                      <a:pt x="944" y="54"/>
                    </a:cubicBezTo>
                    <a:cubicBezTo>
                      <a:pt x="966" y="0"/>
                      <a:pt x="979" y="52"/>
                      <a:pt x="988" y="52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762520" y="4165560"/>
                <a:ext cx="191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762520" y="3989160"/>
                <a:ext cx="1643040" cy="171720"/>
              </a:xfrm>
              <a:custGeom>
                <a:avLst/>
                <a:gdLst/>
                <a:ahLst/>
                <a:rect l="l" t="t" r="r" b="b"/>
                <a:pathLst>
                  <a:path w="1035" h="108">
                    <a:moveTo>
                      <a:pt x="0" y="108"/>
                    </a:moveTo>
                    <a:cubicBezTo>
                      <a:pt x="32" y="99"/>
                      <a:pt x="65" y="90"/>
                      <a:pt x="111" y="78"/>
                    </a:cubicBezTo>
                    <a:cubicBezTo>
                      <a:pt x="157" y="66"/>
                      <a:pt x="224" y="50"/>
                      <a:pt x="276" y="39"/>
                    </a:cubicBezTo>
                    <a:cubicBezTo>
                      <a:pt x="328" y="28"/>
                      <a:pt x="358" y="21"/>
                      <a:pt x="423" y="15"/>
                    </a:cubicBezTo>
                    <a:cubicBezTo>
                      <a:pt x="488" y="9"/>
                      <a:pt x="567" y="6"/>
                      <a:pt x="669" y="3"/>
                    </a:cubicBezTo>
                    <a:cubicBezTo>
                      <a:pt x="771" y="0"/>
                      <a:pt x="903" y="0"/>
                      <a:pt x="1035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5778360" y="4947840"/>
                <a:ext cx="0" cy="142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781600" y="6362640"/>
                <a:ext cx="27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781600" y="5446800"/>
                <a:ext cx="1981440" cy="385560"/>
              </a:xfrm>
              <a:custGeom>
                <a:avLst/>
                <a:gdLst/>
                <a:ahLst/>
                <a:rect l="l" t="t" r="r" b="b"/>
                <a:pathLst>
                  <a:path w="1248" h="243">
                    <a:moveTo>
                      <a:pt x="0" y="0"/>
                    </a:moveTo>
                    <a:cubicBezTo>
                      <a:pt x="55" y="35"/>
                      <a:pt x="111" y="71"/>
                      <a:pt x="174" y="102"/>
                    </a:cubicBezTo>
                    <a:cubicBezTo>
                      <a:pt x="237" y="133"/>
                      <a:pt x="264" y="164"/>
                      <a:pt x="378" y="186"/>
                    </a:cubicBezTo>
                    <a:cubicBezTo>
                      <a:pt x="492" y="208"/>
                      <a:pt x="713" y="225"/>
                      <a:pt x="858" y="234"/>
                    </a:cubicBezTo>
                    <a:cubicBezTo>
                      <a:pt x="1003" y="243"/>
                      <a:pt x="1125" y="241"/>
                      <a:pt x="1248" y="240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772240" y="5437080"/>
                <a:ext cx="20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40280" y="4925880"/>
                <a:ext cx="606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671880" y="332748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38680" y="371484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0" lang="pl-PL" sz="2000" spc="-1" strike="noStrike" baseline="-25000">
                    <a:solidFill>
                      <a:srgbClr val="3333cc"/>
                    </a:solidFill>
                    <a:latin typeface="Times New Roman"/>
                  </a:rPr>
                  <a:t>bŚ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9520" y="1076400"/>
            <a:ext cx="6307200" cy="490068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46160" y="974880"/>
            <a:ext cx="8735760" cy="5864040"/>
            <a:chOff x="146160" y="974880"/>
            <a:chExt cx="8735760" cy="5864040"/>
          </a:xfrm>
        </p:grpSpPr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146160" y="974880"/>
              <a:ext cx="8735760" cy="58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3751560" y="1247760"/>
              <a:ext cx="42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owiększony fragment przebieg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6827400" y="1693800"/>
              <a:ext cx="211320" cy="3159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17640" y="4886280"/>
              <a:ext cx="7850160" cy="130500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6160" y="1119240"/>
            <a:ext cx="863892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F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LC przestrajany kondensatorem, rzadziej cewk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: Variable Frequency Oscil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RC (bez indukcyjności w obwodzie selektywny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generatorem stabilizowanym kwarcem (ang.: X-tal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generatorem kwarcowym przeciąganym - tzn. dostrajanym w bardz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wielkim zakresie (np. klikaset Hz na poziomie 1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ariable X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C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oscylatorem LC przestrajanym warikapem (d. pojemnościow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oltage Controlled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P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or synchronizowany pętlą fazową; tzw. generator P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g.: Phase LockedLoop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uper VF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(premikser) - w którym częstotliwość wyjściową uzyskuj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ię w wyniku sumowania częstotliwości najczęściej XO i VF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5520" y="0"/>
            <a:ext cx="898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zależności od sposobu stabilizacji i przestraj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różnia się następujące rodzaje generator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53960" y="717480"/>
            <a:ext cx="47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rgania relaksacyjne - przery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910800" y="6145200"/>
            <a:ext cx="718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uża stała czasowa albo zbyt silne sprzężenie zwro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2276640" y="4762080"/>
            <a:ext cx="757080" cy="1392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662120" y="1422360"/>
            <a:ext cx="6386400" cy="4643280"/>
            <a:chOff x="1662120" y="1422360"/>
            <a:chExt cx="6386400" cy="4643280"/>
          </a:xfrm>
        </p:grpSpPr>
        <p:grpSp>
          <p:nvGrpSpPr>
            <p:cNvPr id="739" name=""/>
            <p:cNvGrpSpPr/>
            <p:nvPr/>
          </p:nvGrpSpPr>
          <p:grpSpPr>
            <a:xfrm>
              <a:off x="1662120" y="1422360"/>
              <a:ext cx="6386400" cy="4643280"/>
              <a:chOff x="1662120" y="1422360"/>
              <a:chExt cx="6386400" cy="4643280"/>
            </a:xfrm>
          </p:grpSpPr>
          <p:pic>
            <p:nvPicPr>
              <p:cNvPr id="740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662120" y="1422360"/>
                <a:ext cx="6386400" cy="46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"/>
              <p:cNvSpPr/>
              <p:nvPr/>
            </p:nvSpPr>
            <p:spPr>
              <a:xfrm>
                <a:off x="1941480" y="3296880"/>
                <a:ext cx="2874960" cy="194004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5688000" y="492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drgania relaksacyjne - przerywa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46160" y="968400"/>
            <a:ext cx="8710560" cy="5870520"/>
            <a:chOff x="146160" y="968400"/>
            <a:chExt cx="8710560" cy="5870520"/>
          </a:xfrm>
        </p:grpSpPr>
        <p:grpSp>
          <p:nvGrpSpPr>
            <p:cNvPr id="745" name=""/>
            <p:cNvGrpSpPr/>
            <p:nvPr/>
          </p:nvGrpSpPr>
          <p:grpSpPr>
            <a:xfrm>
              <a:off x="146160" y="968400"/>
              <a:ext cx="8710560" cy="5870520"/>
              <a:chOff x="146160" y="968400"/>
              <a:chExt cx="8710560" cy="5870520"/>
            </a:xfrm>
          </p:grpSpPr>
          <p:pic>
            <p:nvPicPr>
              <p:cNvPr id="7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6160" y="968400"/>
                <a:ext cx="8710560" cy="587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>
                <a:off x="3751560" y="1247760"/>
                <a:ext cx="426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Powiększony fragment przebieg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6827400" y="1693800"/>
                <a:ext cx="211320" cy="3159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917640" y="4886280"/>
                <a:ext cx="7850160" cy="1305000"/>
              </a:xfrm>
              <a:prstGeom prst="rect">
                <a:avLst/>
              </a:prstGeom>
              <a:noFill/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7853400" y="4307040"/>
              <a:ext cx="7365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Colpitt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46160" y="1405080"/>
          <a:ext cx="8584920" cy="42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405080"/>
                    <a:ext cx="858492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2300400" y="1144440"/>
          <a:ext cx="46767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0" y="1144440"/>
                    <a:ext cx="46767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Colpittsa zasilaniem przez opornik 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847080" y="269712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144440" y="0"/>
            <a:ext cx="75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215360" y="903240"/>
            <a:ext cx="5733000" cy="4989600"/>
            <a:chOff x="1215360" y="903240"/>
            <a:chExt cx="5733000" cy="4989600"/>
          </a:xfrm>
        </p:grpSpPr>
        <p:grpSp>
          <p:nvGrpSpPr>
            <p:cNvPr id="760" name=""/>
            <p:cNvGrpSpPr/>
            <p:nvPr/>
          </p:nvGrpSpPr>
          <p:grpSpPr>
            <a:xfrm>
              <a:off x="1265400" y="903240"/>
              <a:ext cx="5648040" cy="2228760"/>
              <a:chOff x="1265400" y="903240"/>
              <a:chExt cx="5648040" cy="2228760"/>
            </a:xfrm>
          </p:grpSpPr>
          <p:sp>
            <p:nvSpPr>
              <p:cNvPr id="761" name=""/>
              <p:cNvSpPr/>
              <p:nvPr/>
            </p:nvSpPr>
            <p:spPr>
              <a:xfrm>
                <a:off x="4570560" y="988920"/>
                <a:ext cx="21744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685400" y="101916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356080" y="2063880"/>
                <a:ext cx="21780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434920" y="2090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95400" y="2158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15120" y="1271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515920" y="1339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84320" y="1271520"/>
                <a:ext cx="150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808600" y="2144880"/>
                <a:ext cx="217440" cy="2491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875200" y="217188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954760" y="223992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2" name=""/>
              <p:cNvGrpSpPr/>
              <p:nvPr/>
            </p:nvGrpSpPr>
            <p:grpSpPr>
              <a:xfrm>
                <a:off x="4713120" y="903240"/>
                <a:ext cx="71640" cy="2009880"/>
                <a:chOff x="4713120" y="903240"/>
                <a:chExt cx="71640" cy="200988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4748040" y="968400"/>
                  <a:ext cx="180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713120" y="90324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2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4730400" y="2876400"/>
                <a:ext cx="2183040" cy="71640"/>
                <a:chOff x="4730400" y="2876400"/>
                <a:chExt cx="2183040" cy="71640"/>
              </a:xfrm>
            </p:grpSpPr>
            <p:sp>
              <p:nvSpPr>
                <p:cNvPr id="776" name=""/>
                <p:cNvSpPr/>
                <p:nvPr/>
              </p:nvSpPr>
              <p:spPr>
                <a:xfrm flipH="1" flipV="1">
                  <a:off x="4730400" y="2906280"/>
                  <a:ext cx="2119320" cy="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842160" y="2876400"/>
                  <a:ext cx="7128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1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4757760" y="1658880"/>
                <a:ext cx="479520" cy="1224000"/>
                <a:chOff x="4757760" y="1658880"/>
                <a:chExt cx="479520" cy="122400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  <a:lnTo>
                        <a:pt x="300" y="771"/>
                      </a:lnTo>
                      <a:lnTo>
                        <a:pt x="3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5234040" y="1658880"/>
                <a:ext cx="214200" cy="149400"/>
                <a:chOff x="5234040" y="1658880"/>
                <a:chExt cx="214200" cy="1494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4" name=""/>
              <p:cNvSpPr/>
              <p:nvPr/>
            </p:nvSpPr>
            <p:spPr>
              <a:xfrm>
                <a:off x="5418000" y="1739880"/>
                <a:ext cx="370080" cy="785880"/>
              </a:xfrm>
              <a:custGeom>
                <a:avLst/>
                <a:gdLst/>
                <a:ahLst/>
                <a:rect l="l" t="t" r="r" b="b"/>
                <a:pathLst>
                  <a:path w="233" h="495">
                    <a:moveTo>
                      <a:pt x="12" y="0"/>
                    </a:moveTo>
                    <a:lnTo>
                      <a:pt x="0" y="5"/>
                    </a:lnTo>
                    <a:lnTo>
                      <a:pt x="220" y="495"/>
                    </a:lnTo>
                    <a:lnTo>
                      <a:pt x="233" y="49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"/>
              <p:cNvGrpSpPr/>
              <p:nvPr/>
            </p:nvGrpSpPr>
            <p:grpSpPr>
              <a:xfrm>
                <a:off x="5778360" y="2509920"/>
                <a:ext cx="139680" cy="108000"/>
                <a:chOff x="5778360" y="2509920"/>
                <a:chExt cx="139680" cy="10800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88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5913360" y="2509920"/>
                <a:ext cx="150840" cy="108000"/>
                <a:chOff x="5913360" y="2509920"/>
                <a:chExt cx="150840" cy="10800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  <a:lnTo>
                        <a:pt x="0" y="0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 flipV="1">
                <a:off x="6053040" y="2060280"/>
                <a:ext cx="255600" cy="500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2" name=""/>
              <p:cNvGrpSpPr/>
              <p:nvPr/>
            </p:nvGrpSpPr>
            <p:grpSpPr>
              <a:xfrm>
                <a:off x="6118200" y="1703520"/>
                <a:ext cx="244440" cy="574560"/>
                <a:chOff x="6118200" y="1703520"/>
                <a:chExt cx="244440" cy="57456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  <a:lnTo>
                        <a:pt x="0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>
                <a:off x="6022800" y="2128680"/>
                <a:ext cx="184320" cy="1047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917960" y="1596960"/>
                <a:ext cx="1360440" cy="10954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570640" y="2117880"/>
                <a:ext cx="47520" cy="410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165640" y="1239840"/>
                <a:ext cx="271440" cy="520560"/>
              </a:xfrm>
              <a:custGeom>
                <a:avLst/>
                <a:gdLst/>
                <a:ahLst/>
                <a:rect l="l" t="t" r="r" b="b"/>
                <a:pathLst>
                  <a:path w="171" h="328">
                    <a:moveTo>
                      <a:pt x="161" y="328"/>
                    </a:moveTo>
                    <a:lnTo>
                      <a:pt x="171" y="324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61" y="3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727600" y="2430360"/>
                <a:ext cx="176400" cy="336600"/>
              </a:xfrm>
              <a:custGeom>
                <a:avLst/>
                <a:gdLst/>
                <a:ahLst/>
                <a:rect l="l" t="t" r="r" b="b"/>
                <a:pathLst>
                  <a:path w="111" h="212">
                    <a:moveTo>
                      <a:pt x="100" y="212"/>
                    </a:moveTo>
                    <a:lnTo>
                      <a:pt x="111" y="208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0" y="2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"/>
              <p:cNvGrpSpPr/>
              <p:nvPr/>
            </p:nvGrpSpPr>
            <p:grpSpPr>
              <a:xfrm>
                <a:off x="5594400" y="2155680"/>
                <a:ext cx="6480" cy="741600"/>
                <a:chOff x="5594400" y="2155680"/>
                <a:chExt cx="6480" cy="74160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5594400" y="2155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594400" y="2168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594400" y="2182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594400" y="2195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94400" y="2209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594400" y="2224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594400" y="2236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594400" y="2251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594400" y="2263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594400" y="2278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94400" y="2290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594400" y="2305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594400" y="2319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594400" y="2332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594400" y="2346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594400" y="2359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94400" y="2373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594400" y="2386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594400" y="2400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594400" y="2414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594400" y="24271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594400" y="2441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594400" y="2454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594400" y="2468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594400" y="2481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594400" y="2495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594400" y="2509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594400" y="252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594400" y="2536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594400" y="2549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594400" y="2563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594400" y="2576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594400" y="2590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594400" y="2604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594400" y="2617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594400" y="2631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594400" y="2644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594400" y="2658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594400" y="2671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594400" y="2685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594400" y="2700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594400" y="2712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594400" y="2727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594400" y="2739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594400" y="2754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594400" y="2766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594400" y="2781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594400" y="27957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594400" y="2808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594400" y="2822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594400" y="2835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594400" y="2849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5594400" y="2862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5594400" y="2876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594400" y="288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6" name=""/>
              <p:cNvSpPr/>
              <p:nvPr/>
            </p:nvSpPr>
            <p:spPr>
              <a:xfrm>
                <a:off x="5495760" y="2924280"/>
                <a:ext cx="21456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642000" y="2924280"/>
                <a:ext cx="21744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730200" y="29512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505400" y="2849400"/>
                <a:ext cx="218880" cy="2066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607640" y="2879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087960" y="2087640"/>
                <a:ext cx="104760" cy="183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2" name=""/>
              <p:cNvGrpSpPr/>
              <p:nvPr/>
            </p:nvGrpSpPr>
            <p:grpSpPr>
              <a:xfrm>
                <a:off x="1265400" y="1068480"/>
                <a:ext cx="2504880" cy="1253880"/>
                <a:chOff x="1265400" y="1068480"/>
                <a:chExt cx="2504880" cy="1253880"/>
              </a:xfrm>
            </p:grpSpPr>
            <p:sp>
              <p:nvSpPr>
                <p:cNvPr id="863" name=""/>
                <p:cNvSpPr/>
                <p:nvPr/>
              </p:nvSpPr>
              <p:spPr>
                <a:xfrm flipV="1">
                  <a:off x="360684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1566720" y="1801800"/>
                  <a:ext cx="12744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l-PL" sz="15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i="1" lang="pl-PL" sz="17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398600" y="1379520"/>
                  <a:ext cx="221148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48120" y="1709640"/>
                  <a:ext cx="247680" cy="2206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95640" y="1736640"/>
                  <a:ext cx="8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82760" y="1805040"/>
                  <a:ext cx="54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7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 flipV="1">
                  <a:off x="2761920" y="1792440"/>
                  <a:ext cx="2048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2761920" y="1866600"/>
                  <a:ext cx="2048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865600" y="1393920"/>
                  <a:ext cx="1440" cy="407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865600" y="1876320"/>
                  <a:ext cx="1440" cy="422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949840" y="1920960"/>
                  <a:ext cx="204480" cy="21744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3029040" y="1719360"/>
                  <a:ext cx="936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1940040" y="1903320"/>
                  <a:ext cx="203040" cy="1126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1940040" y="1798560"/>
                  <a:ext cx="203040" cy="1080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1940040" y="1692360"/>
                  <a:ext cx="203040" cy="109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035440" y="1668600"/>
                  <a:ext cx="125280" cy="3682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2024280" y="2009880"/>
                  <a:ext cx="1440" cy="288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V="1">
                  <a:off x="2024280" y="1382400"/>
                  <a:ext cx="1440" cy="299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449440" y="22748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1704960" y="1730520"/>
                  <a:ext cx="208080" cy="21420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1769760" y="1754280"/>
                  <a:ext cx="784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449440" y="136692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1389240" y="2295360"/>
                  <a:ext cx="2230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V="1">
                  <a:off x="1397160" y="1371600"/>
                  <a:ext cx="0" cy="92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7" name=""/>
                <p:cNvGrpSpPr/>
                <p:nvPr/>
              </p:nvGrpSpPr>
              <p:grpSpPr>
                <a:xfrm>
                  <a:off x="1265400" y="1778040"/>
                  <a:ext cx="261720" cy="363600"/>
                  <a:chOff x="1265400" y="1778040"/>
                  <a:chExt cx="261720" cy="363600"/>
                </a:xfrm>
              </p:grpSpPr>
              <p:sp>
                <p:nvSpPr>
                  <p:cNvPr id="888" name=""/>
                  <p:cNvSpPr/>
                  <p:nvPr/>
                </p:nvSpPr>
                <p:spPr>
                  <a:xfrm>
                    <a:off x="1265400" y="1778040"/>
                    <a:ext cx="261720" cy="23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1265400" y="1903680"/>
                    <a:ext cx="2617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0" name=""/>
                  <p:cNvGrpSpPr/>
                  <p:nvPr/>
                </p:nvGrpSpPr>
                <p:grpSpPr>
                  <a:xfrm>
                    <a:off x="1292400" y="1968840"/>
                    <a:ext cx="102960" cy="47520"/>
                    <a:chOff x="1292400" y="1968840"/>
                    <a:chExt cx="102960" cy="47520"/>
                  </a:xfrm>
                </p:grpSpPr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  <a:lnTo>
                            <a:pt x="65" y="0"/>
                          </a:lnTo>
                          <a:lnTo>
                            <a:pt x="65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3" name=""/>
                  <p:cNvGrpSpPr/>
                  <p:nvPr/>
                </p:nvGrpSpPr>
                <p:grpSpPr>
                  <a:xfrm>
                    <a:off x="1395360" y="1968840"/>
                    <a:ext cx="101520" cy="47520"/>
                    <a:chOff x="1395360" y="1968840"/>
                    <a:chExt cx="101520" cy="47520"/>
                  </a:xfrm>
                </p:grpSpPr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  <a:lnTo>
                            <a:pt x="0" y="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6" name=""/>
                  <p:cNvGrpSpPr/>
                  <p:nvPr/>
                </p:nvGrpSpPr>
                <p:grpSpPr>
                  <a:xfrm>
                    <a:off x="1357200" y="1832040"/>
                    <a:ext cx="78120" cy="254160"/>
                    <a:chOff x="1357200" y="1832040"/>
                    <a:chExt cx="78120" cy="254160"/>
                  </a:xfrm>
                </p:grpSpPr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1395360" y="1832040"/>
                      <a:ext cx="1800" cy="25416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1357200" y="1832040"/>
                      <a:ext cx="781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7">
                          <a:moveTo>
                            <a:pt x="49" y="47"/>
                          </a:moveTo>
                          <a:lnTo>
                            <a:pt x="24" y="0"/>
                          </a:lnTo>
                          <a:lnTo>
                            <a:pt x="0" y="4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99" name=""/>
                <p:cNvSpPr/>
                <p:nvPr/>
              </p:nvSpPr>
              <p:spPr>
                <a:xfrm>
                  <a:off x="247356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2413080" y="1689120"/>
                  <a:ext cx="115920" cy="3031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2840040" y="226548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2830680" y="1360440"/>
                  <a:ext cx="4104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992240" y="2255760"/>
                  <a:ext cx="41400" cy="478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992240" y="13604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5" name=""/>
                <p:cNvGrpSpPr/>
                <p:nvPr/>
              </p:nvGrpSpPr>
              <p:grpSpPr>
                <a:xfrm>
                  <a:off x="3371760" y="1509840"/>
                  <a:ext cx="398520" cy="587160"/>
                  <a:chOff x="3371760" y="1509840"/>
                  <a:chExt cx="398520" cy="58716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>
                    <a:off x="3371760" y="1509840"/>
                    <a:ext cx="398520" cy="58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3520800" y="1706400"/>
                    <a:ext cx="159120" cy="19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G</a:t>
                    </a:r>
                    <a:r>
                      <a:rPr b="0" lang="en-US" sz="1100" spc="-1" strike="noStrike" baseline="-25000">
                        <a:solidFill>
                          <a:srgbClr val="ff0066"/>
                        </a:solidFill>
                        <a:latin typeface="Times New Roman"/>
                      </a:rPr>
                      <a:t>N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8" name=""/>
                <p:cNvSpPr/>
                <p:nvPr/>
              </p:nvSpPr>
              <p:spPr>
                <a:xfrm flipV="1">
                  <a:off x="3235320" y="15523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126240" y="1068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0" name=""/>
            <p:cNvGrpSpPr/>
            <p:nvPr/>
          </p:nvGrpSpPr>
          <p:grpSpPr>
            <a:xfrm>
              <a:off x="1215360" y="3668760"/>
              <a:ext cx="5733000" cy="2224080"/>
              <a:chOff x="1215360" y="3668760"/>
              <a:chExt cx="5733000" cy="2224080"/>
            </a:xfrm>
          </p:grpSpPr>
          <p:sp>
            <p:nvSpPr>
              <p:cNvPr id="911" name=""/>
              <p:cNvSpPr/>
              <p:nvPr/>
            </p:nvSpPr>
            <p:spPr>
              <a:xfrm>
                <a:off x="6362640" y="5011560"/>
                <a:ext cx="554040" cy="201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370560" y="5381640"/>
                <a:ext cx="54792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1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1600" y="3754440"/>
                <a:ext cx="217440" cy="2062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728240" y="3781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5" name=""/>
              <p:cNvGrpSpPr/>
              <p:nvPr/>
            </p:nvGrpSpPr>
            <p:grpSpPr>
              <a:xfrm>
                <a:off x="4754520" y="3668760"/>
                <a:ext cx="71640" cy="2009880"/>
                <a:chOff x="4754520" y="3668760"/>
                <a:chExt cx="71640" cy="200988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4788000" y="3733920"/>
                  <a:ext cx="144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4754520" y="3668760"/>
                  <a:ext cx="7164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1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8" name=""/>
              <p:cNvSpPr/>
              <p:nvPr/>
            </p:nvSpPr>
            <p:spPr>
              <a:xfrm>
                <a:off x="5549760" y="4900680"/>
                <a:ext cx="204840" cy="2174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625360" y="4927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685840" y="4995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" name=""/>
              <p:cNvGrpSpPr/>
              <p:nvPr/>
            </p:nvGrpSpPr>
            <p:grpSpPr>
              <a:xfrm>
                <a:off x="5272200" y="4022640"/>
                <a:ext cx="1224000" cy="479520"/>
                <a:chOff x="5272200" y="4022640"/>
                <a:chExt cx="1224000" cy="47952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  <a:lnTo>
                        <a:pt x="771" y="302"/>
                      </a:lnTo>
                      <a:lnTo>
                        <a:pt x="77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5272200" y="4502160"/>
                <a:ext cx="149040" cy="214200"/>
                <a:chOff x="5272200" y="4502160"/>
                <a:chExt cx="149040" cy="21420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  <a:lnTo>
                        <a:pt x="94" y="0"/>
                      </a:lnTo>
                      <a:lnTo>
                        <a:pt x="94" y="1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5343480" y="4672080"/>
                <a:ext cx="784440" cy="374760"/>
              </a:xfrm>
              <a:custGeom>
                <a:avLst/>
                <a:gdLst/>
                <a:ahLst/>
                <a:rect l="l" t="t" r="r" b="b"/>
                <a:pathLst>
                  <a:path w="494" h="236">
                    <a:moveTo>
                      <a:pt x="4" y="0"/>
                    </a:moveTo>
                    <a:lnTo>
                      <a:pt x="0" y="13"/>
                    </a:lnTo>
                    <a:lnTo>
                      <a:pt x="490" y="236"/>
                    </a:lnTo>
                    <a:lnTo>
                      <a:pt x="494" y="2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8" name=""/>
              <p:cNvGrpSpPr/>
              <p:nvPr/>
            </p:nvGrpSpPr>
            <p:grpSpPr>
              <a:xfrm>
                <a:off x="6121440" y="5043600"/>
                <a:ext cx="109440" cy="137880"/>
                <a:chOff x="6121440" y="5043600"/>
                <a:chExt cx="109440" cy="13788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  <a:lnTo>
                        <a:pt x="0" y="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121440" y="5181480"/>
                <a:ext cx="109440" cy="150840"/>
                <a:chOff x="6121440" y="5181480"/>
                <a:chExt cx="109440" cy="15084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" name=""/>
              <p:cNvSpPr/>
              <p:nvPr/>
            </p:nvSpPr>
            <p:spPr>
              <a:xfrm flipH="1">
                <a:off x="5665320" y="5321160"/>
                <a:ext cx="500040" cy="255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5315040" y="5383080"/>
                <a:ext cx="574560" cy="247680"/>
                <a:chOff x="5315040" y="5383080"/>
                <a:chExt cx="574560" cy="24768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  <a:lnTo>
                        <a:pt x="0" y="0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8" name=""/>
              <p:cNvSpPr/>
              <p:nvPr/>
            </p:nvSpPr>
            <p:spPr>
              <a:xfrm>
                <a:off x="5751360" y="5273640"/>
                <a:ext cx="152640" cy="1731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210280" y="4183200"/>
                <a:ext cx="1095120" cy="13636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53160" y="4427640"/>
                <a:ext cx="520560" cy="277560"/>
              </a:xfrm>
              <a:custGeom>
                <a:avLst/>
                <a:gdLst/>
                <a:ahLst/>
                <a:rect l="l" t="t" r="r" b="b"/>
                <a:pathLst>
                  <a:path w="328" h="175">
                    <a:moveTo>
                      <a:pt x="324" y="175"/>
                    </a:moveTo>
                    <a:lnTo>
                      <a:pt x="328" y="163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24" y="17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043680" y="4991040"/>
                <a:ext cx="568080" cy="293760"/>
              </a:xfrm>
              <a:custGeom>
                <a:avLst/>
                <a:gdLst/>
                <a:ahLst/>
                <a:rect l="l" t="t" r="r" b="b"/>
                <a:pathLst>
                  <a:path w="358" h="185">
                    <a:moveTo>
                      <a:pt x="353" y="185"/>
                    </a:moveTo>
                    <a:lnTo>
                      <a:pt x="358" y="172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53" y="1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2" name=""/>
              <p:cNvGrpSpPr/>
              <p:nvPr/>
            </p:nvGrpSpPr>
            <p:grpSpPr>
              <a:xfrm>
                <a:off x="4784760" y="4856040"/>
                <a:ext cx="958680" cy="12960"/>
                <a:chOff x="4784760" y="4856040"/>
                <a:chExt cx="958680" cy="1296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478476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799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811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826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838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853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867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8798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894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06800" y="48560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21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338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4948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962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4975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4989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0022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016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0292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043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057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070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084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097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111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124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138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153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165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180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192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207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219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34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248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261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275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288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5302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315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329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343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356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370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383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397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410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424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437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451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465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478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492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5054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519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5324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546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560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573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587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6008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614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27520" y="486252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641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656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668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683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695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710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5722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737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4" name=""/>
              <p:cNvSpPr/>
              <p:nvPr/>
            </p:nvSpPr>
            <p:spPr>
              <a:xfrm>
                <a:off x="5537160" y="5689440"/>
                <a:ext cx="21744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686640" y="5689440"/>
                <a:ext cx="21420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774840" y="57164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549680" y="5613480"/>
                <a:ext cx="214560" cy="2048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652280" y="56419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631840" y="4338720"/>
                <a:ext cx="2995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13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30840" y="4838760"/>
                <a:ext cx="396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549680" y="4773600"/>
                <a:ext cx="21456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640760" y="4800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679640" y="4869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4" name=""/>
              <p:cNvGrpSpPr/>
              <p:nvPr/>
            </p:nvGrpSpPr>
            <p:grpSpPr>
              <a:xfrm>
                <a:off x="4771800" y="5637240"/>
                <a:ext cx="2176560" cy="71280"/>
                <a:chOff x="4771800" y="5637240"/>
                <a:chExt cx="2176560" cy="71280"/>
              </a:xfrm>
            </p:grpSpPr>
            <p:sp>
              <p:nvSpPr>
                <p:cNvPr id="1025" name=""/>
                <p:cNvSpPr/>
                <p:nvPr/>
              </p:nvSpPr>
              <p:spPr>
                <a:xfrm flipH="1">
                  <a:off x="4771800" y="5672160"/>
                  <a:ext cx="211140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877080" y="5637240"/>
                  <a:ext cx="7128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2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1215360" y="3695760"/>
                <a:ext cx="2964240" cy="1523880"/>
                <a:chOff x="1215360" y="3695760"/>
                <a:chExt cx="2964240" cy="1523880"/>
              </a:xfrm>
            </p:grpSpPr>
            <p:grpSp>
              <p:nvGrpSpPr>
                <p:cNvPr id="1028" name=""/>
                <p:cNvGrpSpPr/>
                <p:nvPr/>
              </p:nvGrpSpPr>
              <p:grpSpPr>
                <a:xfrm>
                  <a:off x="1215360" y="3695760"/>
                  <a:ext cx="2352960" cy="1522440"/>
                  <a:chOff x="1215360" y="3695760"/>
                  <a:chExt cx="2352960" cy="1522440"/>
                </a:xfrm>
              </p:grpSpPr>
              <p:sp>
                <p:nvSpPr>
                  <p:cNvPr id="1029" name=""/>
                  <p:cNvSpPr/>
                  <p:nvPr/>
                </p:nvSpPr>
                <p:spPr>
                  <a:xfrm>
                    <a:off x="2568600" y="4026240"/>
                    <a:ext cx="81540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3371760" y="4017960"/>
                    <a:ext cx="0" cy="120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1531800" y="4029120"/>
                    <a:ext cx="1440" cy="4017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1530360" y="4483440"/>
                    <a:ext cx="2880" cy="71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3170160" y="4340520"/>
                    <a:ext cx="398160" cy="587160"/>
                    <a:chOff x="3170160" y="4340520"/>
                    <a:chExt cx="398160" cy="587160"/>
                  </a:xfrm>
                </p:grpSpPr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3170160" y="4340520"/>
                      <a:ext cx="398160" cy="587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3288960" y="4527720"/>
                      <a:ext cx="105840" cy="19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pl-PL" sz="1100" spc="-1" strike="noStrike" baseline="-25000">
                          <a:solidFill>
                            <a:srgbClr val="ff0066"/>
                          </a:solidFill>
                          <a:latin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6" name=""/>
                  <p:cNvSpPr/>
                  <p:nvPr/>
                </p:nvSpPr>
                <p:spPr>
                  <a:xfrm>
                    <a:off x="1411200" y="4442040"/>
                    <a:ext cx="23472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1466640" y="4486320"/>
                    <a:ext cx="12528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1215360" y="4384800"/>
                    <a:ext cx="171360" cy="2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r>
                      <a:rPr b="0" i="1" lang="en-US" sz="15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g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1677960" y="4561200"/>
                    <a:ext cx="11700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1677960" y="4370400"/>
                    <a:ext cx="113760" cy="18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1735200" y="4313520"/>
                    <a:ext cx="1080" cy="1159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 rot="16200000">
                    <a:off x="2894400" y="3872880"/>
                    <a:ext cx="115920" cy="30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2228760" y="4662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2773080" y="4127760"/>
                    <a:ext cx="99720" cy="19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pl-PL" sz="11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r</a:t>
                    </a:r>
                    <a:r>
                      <a:rPr b="1" i="1" lang="pl-PL" sz="1100" spc="-1" strike="noStrike" baseline="-25000">
                        <a:solidFill>
                          <a:srgbClr val="008000"/>
                        </a:solidFill>
                        <a:latin typeface="Times New Roman"/>
                      </a:rPr>
                      <a:t>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5" name=""/>
                  <p:cNvGrpSpPr/>
                  <p:nvPr/>
                </p:nvGrpSpPr>
                <p:grpSpPr>
                  <a:xfrm>
                    <a:off x="1811160" y="3930840"/>
                    <a:ext cx="75600" cy="201600"/>
                    <a:chOff x="1811160" y="3930840"/>
                    <a:chExt cx="75600" cy="201600"/>
                  </a:xfrm>
                </p:grpSpPr>
                <p:sp>
                  <p:nvSpPr>
                    <p:cNvPr id="1046" name=""/>
                    <p:cNvSpPr/>
                    <p:nvPr/>
                  </p:nvSpPr>
                  <p:spPr>
                    <a:xfrm flipH="1" flipV="1">
                      <a:off x="1885680" y="3930840"/>
                      <a:ext cx="108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 flipH="1" flipV="1">
                      <a:off x="1811160" y="3930840"/>
                      <a:ext cx="144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8" name=""/>
                  <p:cNvSpPr/>
                  <p:nvPr/>
                </p:nvSpPr>
                <p:spPr>
                  <a:xfrm>
                    <a:off x="2208240" y="4338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1781280" y="4156200"/>
                    <a:ext cx="936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238480" y="3940200"/>
                    <a:ext cx="1090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344680" y="3940200"/>
                    <a:ext cx="1108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2449440" y="3940200"/>
                    <a:ext cx="11232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2217600" y="4035600"/>
                    <a:ext cx="364680" cy="12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2306520" y="3695760"/>
                    <a:ext cx="217080" cy="20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2314080" y="4065840"/>
                    <a:ext cx="784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1531800" y="5193000"/>
                    <a:ext cx="183168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533600" y="4027680"/>
                    <a:ext cx="266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1886040" y="4027680"/>
                    <a:ext cx="34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9" name=""/>
                <p:cNvSpPr/>
                <p:nvPr/>
              </p:nvSpPr>
              <p:spPr>
                <a:xfrm>
                  <a:off x="3870720" y="4524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V="1">
                  <a:off x="3827520" y="4124520"/>
                  <a:ext cx="0" cy="10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61" name=""/>
          <p:cNvSpPr/>
          <p:nvPr/>
        </p:nvSpPr>
        <p:spPr>
          <a:xfrm>
            <a:off x="7209360" y="186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369560" y="4522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047600" y="103500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padkowa admitancja obwodu równoleg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62200" y="1741320"/>
                <a:ext cx="274320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w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5" name=""/>
          <p:cNvSpPr/>
          <p:nvPr/>
        </p:nvSpPr>
        <p:spPr>
          <a:xfrm>
            <a:off x="1167120" y="2581200"/>
            <a:ext cx="50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padkowa impedancja obwodu szereg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2647800" y="3127320"/>
                <a:ext cx="25146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w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7" name=""/>
          <p:cNvSpPr/>
          <p:nvPr/>
        </p:nvSpPr>
        <p:spPr>
          <a:xfrm>
            <a:off x="146160" y="388476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 generacji otrzymuje się z założeniem, że powyższe równania staja się równe zer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ór Thomp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614680" y="4762440"/>
                <a:ext cx="2438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9" name=""/>
          <p:cNvSpPr/>
          <p:nvPr/>
        </p:nvSpPr>
        <p:spPr>
          <a:xfrm>
            <a:off x="1144080" y="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369720" y="773280"/>
            <a:ext cx="8138880" cy="6070320"/>
            <a:chOff x="369720" y="773280"/>
            <a:chExt cx="8138880" cy="6070320"/>
          </a:xfrm>
        </p:grpSpPr>
        <p:sp>
          <p:nvSpPr>
            <p:cNvPr id="1072" name=""/>
            <p:cNvSpPr/>
            <p:nvPr/>
          </p:nvSpPr>
          <p:spPr>
            <a:xfrm>
              <a:off x="4189320" y="2209680"/>
              <a:ext cx="35712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237200" y="2241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354560" y="231768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5" name=""/>
            <p:cNvGrpSpPr/>
            <p:nvPr/>
          </p:nvGrpSpPr>
          <p:grpSpPr>
            <a:xfrm>
              <a:off x="4502160" y="3870360"/>
              <a:ext cx="82080" cy="1149120"/>
              <a:chOff x="4502160" y="3870360"/>
              <a:chExt cx="82080" cy="1149120"/>
            </a:xfrm>
          </p:grpSpPr>
          <p:sp>
            <p:nvSpPr>
              <p:cNvPr id="1076" name=""/>
              <p:cNvSpPr/>
              <p:nvPr/>
            </p:nvSpPr>
            <p:spPr>
              <a:xfrm>
                <a:off x="4542120" y="3943080"/>
                <a:ext cx="2160" cy="107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502160" y="387036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4530600" y="4967280"/>
              <a:ext cx="3978000" cy="80640"/>
              <a:chOff x="4530600" y="4967280"/>
              <a:chExt cx="3978000" cy="80640"/>
            </a:xfrm>
          </p:grpSpPr>
          <p:sp>
            <p:nvSpPr>
              <p:cNvPr id="1079" name=""/>
              <p:cNvSpPr/>
              <p:nvPr/>
            </p:nvSpPr>
            <p:spPr>
              <a:xfrm flipH="1">
                <a:off x="4530600" y="5004720"/>
                <a:ext cx="3903840" cy="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426880" y="49672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0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491000" y="998640"/>
              <a:ext cx="82080" cy="2477160"/>
              <a:chOff x="4491000" y="998640"/>
              <a:chExt cx="82080" cy="2477160"/>
            </a:xfrm>
          </p:grpSpPr>
          <p:sp>
            <p:nvSpPr>
              <p:cNvPr id="1082" name=""/>
              <p:cNvSpPr/>
              <p:nvPr/>
            </p:nvSpPr>
            <p:spPr>
              <a:xfrm>
                <a:off x="4530960" y="1071000"/>
                <a:ext cx="1440" cy="2404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491000" y="998640"/>
                <a:ext cx="82080" cy="817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44"/>
                    </a:moveTo>
                    <a:lnTo>
                      <a:pt x="21" y="0"/>
                    </a:lnTo>
                    <a:lnTo>
                      <a:pt x="0" y="44"/>
                    </a:lnTo>
                    <a:lnTo>
                      <a:pt x="4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4519440" y="3427560"/>
              <a:ext cx="3978000" cy="78840"/>
              <a:chOff x="4519440" y="3427560"/>
              <a:chExt cx="3978000" cy="78840"/>
            </a:xfrm>
          </p:grpSpPr>
          <p:sp>
            <p:nvSpPr>
              <p:cNvPr id="1085" name=""/>
              <p:cNvSpPr/>
              <p:nvPr/>
            </p:nvSpPr>
            <p:spPr>
              <a:xfrm flipH="1">
                <a:off x="4519440" y="346608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415360" y="3427560"/>
                <a:ext cx="82080" cy="788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4502160" y="5415120"/>
              <a:ext cx="82080" cy="1148760"/>
              <a:chOff x="4502160" y="5415120"/>
              <a:chExt cx="82080" cy="1148760"/>
            </a:xfrm>
          </p:grpSpPr>
          <p:sp>
            <p:nvSpPr>
              <p:cNvPr id="1088" name=""/>
              <p:cNvSpPr/>
              <p:nvPr/>
            </p:nvSpPr>
            <p:spPr>
              <a:xfrm>
                <a:off x="4542120" y="5487840"/>
                <a:ext cx="2160" cy="107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502160" y="541512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4530600" y="6513480"/>
              <a:ext cx="3978000" cy="80640"/>
              <a:chOff x="4530600" y="6513480"/>
              <a:chExt cx="3978000" cy="80640"/>
            </a:xfrm>
          </p:grpSpPr>
          <p:sp>
            <p:nvSpPr>
              <p:cNvPr id="1091" name=""/>
              <p:cNvSpPr/>
              <p:nvPr/>
            </p:nvSpPr>
            <p:spPr>
              <a:xfrm flipH="1">
                <a:off x="4530600" y="655272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426880" y="65134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 flipH="1">
              <a:off x="4530240" y="2317680"/>
              <a:ext cx="3978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997520" y="1320840"/>
              <a:ext cx="210960" cy="179280"/>
            </a:xfrm>
            <a:custGeom>
              <a:avLst/>
              <a:gdLst/>
              <a:ahLst/>
              <a:rect l="l" t="t" r="r" b="b"/>
              <a:pathLst>
                <a:path w="111" h="96">
                  <a:moveTo>
                    <a:pt x="111" y="0"/>
                  </a:moveTo>
                  <a:lnTo>
                    <a:pt x="88" y="2"/>
                  </a:lnTo>
                  <a:lnTo>
                    <a:pt x="68" y="8"/>
                  </a:lnTo>
                  <a:lnTo>
                    <a:pt x="49" y="16"/>
                  </a:lnTo>
                  <a:lnTo>
                    <a:pt x="33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18004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4" y="8"/>
                  </a:lnTo>
                  <a:lnTo>
                    <a:pt x="62" y="16"/>
                  </a:lnTo>
                  <a:lnTo>
                    <a:pt x="78" y="29"/>
                  </a:lnTo>
                  <a:lnTo>
                    <a:pt x="91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478944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388120" y="1512720"/>
              <a:ext cx="21096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615000" y="1320840"/>
              <a:ext cx="204840" cy="1792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108" y="0"/>
                  </a:moveTo>
                  <a:lnTo>
                    <a:pt x="86" y="2"/>
                  </a:lnTo>
                  <a:lnTo>
                    <a:pt x="67" y="8"/>
                  </a:lnTo>
                  <a:lnTo>
                    <a:pt x="49" y="16"/>
                  </a:lnTo>
                  <a:lnTo>
                    <a:pt x="32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79752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3" y="8"/>
                  </a:lnTo>
                  <a:lnTo>
                    <a:pt x="62" y="16"/>
                  </a:lnTo>
                  <a:lnTo>
                    <a:pt x="76" y="29"/>
                  </a:lnTo>
                  <a:lnTo>
                    <a:pt x="90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6406920" y="1512720"/>
              <a:ext cx="20772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00560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81184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109" y="96"/>
                  </a:moveTo>
                  <a:lnTo>
                    <a:pt x="86" y="94"/>
                  </a:lnTo>
                  <a:lnTo>
                    <a:pt x="68" y="88"/>
                  </a:lnTo>
                  <a:lnTo>
                    <a:pt x="49" y="80"/>
                  </a:lnTo>
                  <a:lnTo>
                    <a:pt x="33" y="68"/>
                  </a:lnTo>
                  <a:lnTo>
                    <a:pt x="18" y="53"/>
                  </a:lnTo>
                  <a:lnTo>
                    <a:pt x="8" y="37"/>
                  </a:lnTo>
                  <a:lnTo>
                    <a:pt x="2" y="2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99436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96"/>
                  </a:moveTo>
                  <a:lnTo>
                    <a:pt x="23" y="94"/>
                  </a:lnTo>
                  <a:lnTo>
                    <a:pt x="43" y="88"/>
                  </a:lnTo>
                  <a:lnTo>
                    <a:pt x="62" y="80"/>
                  </a:lnTo>
                  <a:lnTo>
                    <a:pt x="76" y="68"/>
                  </a:lnTo>
                  <a:lnTo>
                    <a:pt x="91" y="53"/>
                  </a:lnTo>
                  <a:lnTo>
                    <a:pt x="101" y="37"/>
                  </a:lnTo>
                  <a:lnTo>
                    <a:pt x="107" y="20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5603760" y="2309400"/>
              <a:ext cx="20808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202440" y="2309400"/>
              <a:ext cx="20772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4714920" y="2317680"/>
              <a:ext cx="619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10440" y="2317680"/>
              <a:ext cx="856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5141520" y="1320840"/>
              <a:ext cx="165276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4792680" y="2297160"/>
              <a:ext cx="1440" cy="3889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7216920" y="2296800"/>
              <a:ext cx="2880" cy="398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6410160" y="2320920"/>
              <a:ext cx="180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5599080" y="2309760"/>
              <a:ext cx="468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5532480" y="4327560"/>
              <a:ext cx="9446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538520" y="5016600"/>
              <a:ext cx="19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473400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856040" y="4321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55400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662440" y="5016600"/>
              <a:ext cx="700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6346800" y="4327560"/>
              <a:ext cx="12708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485040" y="4321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 flipV="1">
              <a:off x="71816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323120" y="5008680"/>
              <a:ext cx="155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538520" y="5859360"/>
              <a:ext cx="195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734000" y="5859360"/>
              <a:ext cx="12204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856040" y="6553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5543640" y="5859360"/>
              <a:ext cx="118800" cy="6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62440" y="5859360"/>
              <a:ext cx="700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346800" y="5859360"/>
              <a:ext cx="12708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485040" y="6553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7182000" y="5859360"/>
              <a:ext cx="1094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6327720" y="5859360"/>
              <a:ext cx="9432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4726080" y="5859360"/>
              <a:ext cx="944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37200" y="1084320"/>
              <a:ext cx="274320" cy="230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260960" y="1114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377600" y="119052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237200" y="3967200"/>
              <a:ext cx="274320" cy="237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296600" y="399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341240" y="40734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226040" y="5499000"/>
              <a:ext cx="272880" cy="236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82200" y="5529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330080" y="56070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00760" y="4062240"/>
              <a:ext cx="227160" cy="23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44680" y="4092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99040" y="4168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67280" y="5594400"/>
              <a:ext cx="28440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15880" y="5627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71320" y="5702400"/>
              <a:ext cx="20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311720" y="643428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366440" y="646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22880" y="4878360"/>
              <a:ext cx="201600" cy="265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377600" y="4910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311720" y="333216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366440" y="336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26360" y="6575400"/>
              <a:ext cx="20016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300160" y="6608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226360" y="5043600"/>
              <a:ext cx="200160" cy="266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300160" y="50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204040" y="3500280"/>
              <a:ext cx="200160" cy="268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277840" y="3532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607000" y="1670040"/>
              <a:ext cx="36036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89440" y="1700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806800" y="1776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5945040" y="1320840"/>
              <a:ext cx="85680" cy="996480"/>
              <a:chOff x="5945040" y="1320840"/>
              <a:chExt cx="85680" cy="996480"/>
            </a:xfrm>
          </p:grpSpPr>
          <p:sp>
            <p:nvSpPr>
              <p:cNvPr id="1164" name=""/>
              <p:cNvSpPr/>
              <p:nvPr/>
            </p:nvSpPr>
            <p:spPr>
              <a:xfrm>
                <a:off x="5986800" y="1393560"/>
                <a:ext cx="1440" cy="85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948280" y="1320840"/>
                <a:ext cx="8244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0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945040" y="2237040"/>
                <a:ext cx="8172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0"/>
                    </a:moveTo>
                    <a:lnTo>
                      <a:pt x="22" y="4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>
              <a:off x="7182000" y="2293920"/>
              <a:ext cx="507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370560" y="229392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757760" y="2293920"/>
              <a:ext cx="5544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70560" y="4687920"/>
              <a:ext cx="5580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65600" y="2293920"/>
              <a:ext cx="525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205760" y="4648320"/>
              <a:ext cx="54000" cy="475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565600" y="4670280"/>
              <a:ext cx="52560" cy="51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57760" y="4687920"/>
              <a:ext cx="5544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192800" y="616896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388200" y="616896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5767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7703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69720" y="4087800"/>
              <a:ext cx="3559320" cy="1945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enerator LC  z ujemną rezystancj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kład z kluczem różnicowy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rzebiegi czasowe prądów i napięcia na obwodzie rezonansowy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473040" y="773280"/>
              <a:ext cx="3160440" cy="3020040"/>
              <a:chOff x="473040" y="773280"/>
              <a:chExt cx="3160440" cy="3020040"/>
            </a:xfrm>
          </p:grpSpPr>
          <p:sp>
            <p:nvSpPr>
              <p:cNvPr id="1181" name=""/>
              <p:cNvSpPr/>
              <p:nvPr/>
            </p:nvSpPr>
            <p:spPr>
              <a:xfrm>
                <a:off x="289692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93292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02184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60316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63916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72808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825560" y="1508040"/>
                <a:ext cx="285480" cy="24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911240" y="15400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515960" y="1833480"/>
                <a:ext cx="36036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569600" y="18637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672560" y="19400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438200" y="1619280"/>
                <a:ext cx="1317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1501560" y="1481040"/>
                <a:ext cx="6480" cy="145800"/>
                <a:chOff x="1501560" y="1481040"/>
                <a:chExt cx="6480" cy="14580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1501560" y="148104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501560" y="14958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501560" y="15105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501560" y="1527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501560" y="1542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501560" y="155772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501560" y="1572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501560" y="158760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1560" y="160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01560" y="161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1501560" y="1947960"/>
                <a:ext cx="6480" cy="161640"/>
                <a:chOff x="1501560" y="1947960"/>
                <a:chExt cx="6480" cy="16164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1501560" y="19479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501560" y="196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1501560" y="197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1501560" y="1994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1501560" y="200952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1501560" y="20257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1501560" y="2040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1501560" y="2055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1501560" y="207036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1501560" y="2085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1501560" y="2102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6" name=""/>
              <p:cNvSpPr/>
              <p:nvPr/>
            </p:nvSpPr>
            <p:spPr>
              <a:xfrm flipH="1">
                <a:off x="1711080" y="173520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>
                <a:off x="1711080" y="181944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1825200" y="1478160"/>
                <a:ext cx="3240" cy="264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828800" y="1830600"/>
                <a:ext cx="1440" cy="27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116000" y="1604880"/>
                <a:ext cx="239400" cy="120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116000" y="1722600"/>
                <a:ext cx="23940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116000" y="1841400"/>
                <a:ext cx="23940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225440" y="1581120"/>
                <a:ext cx="149040" cy="40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214280" y="1470240"/>
                <a:ext cx="1440" cy="13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214280" y="197640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709720" y="169236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709720" y="154800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8" name=""/>
              <p:cNvGrpSpPr/>
              <p:nvPr/>
            </p:nvGrpSpPr>
            <p:grpSpPr>
              <a:xfrm>
                <a:off x="2736720" y="1684440"/>
                <a:ext cx="121680" cy="55080"/>
                <a:chOff x="2736720" y="1684440"/>
                <a:chExt cx="121680" cy="5508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  <a:lnTo>
                        <a:pt x="62" y="29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1" name=""/>
              <p:cNvSpPr/>
              <p:nvPr/>
            </p:nvSpPr>
            <p:spPr>
              <a:xfrm flipV="1">
                <a:off x="2858760" y="1947600"/>
                <a:ext cx="1800" cy="158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2855880" y="1379520"/>
                <a:ext cx="1440" cy="155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3" name=""/>
              <p:cNvGrpSpPr/>
              <p:nvPr/>
            </p:nvGrpSpPr>
            <p:grpSpPr>
              <a:xfrm>
                <a:off x="2855880" y="1684440"/>
                <a:ext cx="115560" cy="55080"/>
                <a:chOff x="2855880" y="1684440"/>
                <a:chExt cx="115560" cy="5508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2808000" y="1607760"/>
                <a:ext cx="88560" cy="287280"/>
                <a:chOff x="2808000" y="1607760"/>
                <a:chExt cx="88560" cy="287280"/>
              </a:xfrm>
            </p:grpSpPr>
            <p:sp>
              <p:nvSpPr>
                <p:cNvPr id="1237" name=""/>
                <p:cNvSpPr/>
                <p:nvPr/>
              </p:nvSpPr>
              <p:spPr>
                <a:xfrm flipV="1">
                  <a:off x="2855160" y="1607760"/>
                  <a:ext cx="1440" cy="28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808000" y="1811160"/>
                  <a:ext cx="88560" cy="8388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0" y="0"/>
                      </a:moveTo>
                      <a:lnTo>
                        <a:pt x="25" y="45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9" name=""/>
              <p:cNvSpPr/>
              <p:nvPr/>
            </p:nvSpPr>
            <p:spPr>
              <a:xfrm>
                <a:off x="1171440" y="2616120"/>
                <a:ext cx="398520" cy="38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296720" y="2700360"/>
                <a:ext cx="18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V="1">
                <a:off x="1307880" y="2660760"/>
                <a:ext cx="1969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2" name=""/>
              <p:cNvGrpSpPr/>
              <p:nvPr/>
            </p:nvGrpSpPr>
            <p:grpSpPr>
              <a:xfrm>
                <a:off x="1307880" y="2836800"/>
                <a:ext cx="122040" cy="80640"/>
                <a:chOff x="1307880" y="2836800"/>
                <a:chExt cx="122040" cy="8064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1307880" y="2851560"/>
                  <a:ext cx="12204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1330560" y="2836800"/>
                  <a:ext cx="99000" cy="80640"/>
                </a:xfrm>
                <a:custGeom>
                  <a:avLst/>
                  <a:gdLst/>
                  <a:ahLst/>
                  <a:rect l="l" t="t" r="r" b="b"/>
                  <a:pathLst>
                    <a:path w="52" h="43">
                      <a:moveTo>
                        <a:pt x="0" y="43"/>
                      </a:moveTo>
                      <a:lnTo>
                        <a:pt x="52" y="41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5" name=""/>
              <p:cNvSpPr/>
              <p:nvPr/>
            </p:nvSpPr>
            <p:spPr>
              <a:xfrm>
                <a:off x="1430280" y="2914560"/>
                <a:ext cx="745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1171440" y="2809800"/>
                <a:ext cx="125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036440" y="2806920"/>
                <a:ext cx="324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V="1">
                <a:off x="1504800" y="251892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036440" y="2809800"/>
                <a:ext cx="138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471320" y="1455840"/>
                <a:ext cx="55800" cy="442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093840" y="2201760"/>
                <a:ext cx="395280" cy="389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V="1">
                <a:off x="3362040" y="2288880"/>
                <a:ext cx="324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3157200" y="2452680"/>
                <a:ext cx="193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 flipV="1">
                <a:off x="3265200" y="2317680"/>
                <a:ext cx="8568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5" name=""/>
              <p:cNvGrpSpPr/>
              <p:nvPr/>
            </p:nvGrpSpPr>
            <p:grpSpPr>
              <a:xfrm>
                <a:off x="3149280" y="2247840"/>
                <a:ext cx="126720" cy="80640"/>
                <a:chOff x="3149280" y="2247840"/>
                <a:chExt cx="126720" cy="80640"/>
              </a:xfrm>
            </p:grpSpPr>
            <p:sp>
              <p:nvSpPr>
                <p:cNvPr id="1256" name=""/>
                <p:cNvSpPr/>
                <p:nvPr/>
              </p:nvSpPr>
              <p:spPr>
                <a:xfrm flipH="1" flipV="1">
                  <a:off x="3149280" y="2255040"/>
                  <a:ext cx="12672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3179520" y="2247840"/>
                  <a:ext cx="96480" cy="8064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1"/>
                      </a:moveTo>
                      <a:lnTo>
                        <a:pt x="51" y="43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8" name=""/>
              <p:cNvSpPr/>
              <p:nvPr/>
            </p:nvSpPr>
            <p:spPr>
              <a:xfrm>
                <a:off x="3362040" y="2390760"/>
                <a:ext cx="122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9" name=""/>
              <p:cNvGrpSpPr/>
              <p:nvPr/>
            </p:nvGrpSpPr>
            <p:grpSpPr>
              <a:xfrm>
                <a:off x="3112920" y="2518920"/>
                <a:ext cx="82080" cy="263520"/>
                <a:chOff x="3112920" y="2518920"/>
                <a:chExt cx="82080" cy="263520"/>
              </a:xfrm>
            </p:grpSpPr>
            <p:sp>
              <p:nvSpPr>
                <p:cNvPr id="1260" name=""/>
                <p:cNvSpPr/>
                <p:nvPr/>
              </p:nvSpPr>
              <p:spPr>
                <a:xfrm flipV="1">
                  <a:off x="3156840" y="2518920"/>
                  <a:ext cx="1440" cy="263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112920" y="2702520"/>
                  <a:ext cx="82080" cy="7992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2" name=""/>
              <p:cNvSpPr/>
              <p:nvPr/>
            </p:nvSpPr>
            <p:spPr>
              <a:xfrm>
                <a:off x="3152520" y="2117880"/>
                <a:ext cx="180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>
                <a:off x="3480840" y="2390760"/>
                <a:ext cx="141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34880" y="2193840"/>
                <a:ext cx="401760" cy="390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357280" y="2278080"/>
                <a:ext cx="32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2373120" y="2244600"/>
                <a:ext cx="19512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7" name=""/>
              <p:cNvGrpSpPr/>
              <p:nvPr/>
            </p:nvGrpSpPr>
            <p:grpSpPr>
              <a:xfrm>
                <a:off x="2373120" y="2419560"/>
                <a:ext cx="122040" cy="80280"/>
                <a:chOff x="2373120" y="2419560"/>
                <a:chExt cx="122040" cy="80280"/>
              </a:xfrm>
            </p:grpSpPr>
            <p:sp>
              <p:nvSpPr>
                <p:cNvPr id="1268" name=""/>
                <p:cNvSpPr/>
                <p:nvPr/>
              </p:nvSpPr>
              <p:spPr>
                <a:xfrm>
                  <a:off x="2373120" y="2434320"/>
                  <a:ext cx="12204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397960" y="2419560"/>
                  <a:ext cx="97200" cy="8028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3"/>
                      </a:moveTo>
                      <a:lnTo>
                        <a:pt x="51" y="41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0" name=""/>
              <p:cNvSpPr/>
              <p:nvPr/>
            </p:nvSpPr>
            <p:spPr>
              <a:xfrm>
                <a:off x="2495520" y="2492280"/>
                <a:ext cx="7272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>
                <a:off x="2234520" y="2394000"/>
                <a:ext cx="125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568240" y="2532240"/>
                <a:ext cx="3240" cy="19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2568240" y="2103480"/>
                <a:ext cx="3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508040" y="2394000"/>
                <a:ext cx="731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2568240" y="2109960"/>
                <a:ext cx="600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6" name=""/>
              <p:cNvGrpSpPr/>
              <p:nvPr/>
            </p:nvGrpSpPr>
            <p:grpSpPr>
              <a:xfrm>
                <a:off x="1460160" y="2098440"/>
                <a:ext cx="82440" cy="420480"/>
                <a:chOff x="1460160" y="2098440"/>
                <a:chExt cx="82440" cy="420480"/>
              </a:xfrm>
            </p:grpSpPr>
            <p:sp>
              <p:nvSpPr>
                <p:cNvPr id="1277" name=""/>
                <p:cNvSpPr/>
                <p:nvPr/>
              </p:nvSpPr>
              <p:spPr>
                <a:xfrm flipV="1">
                  <a:off x="1504440" y="2098440"/>
                  <a:ext cx="1440" cy="420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1460160" y="2438640"/>
                  <a:ext cx="82440" cy="8028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9" name=""/>
              <p:cNvSpPr/>
              <p:nvPr/>
            </p:nvSpPr>
            <p:spPr>
              <a:xfrm>
                <a:off x="1430280" y="3089160"/>
                <a:ext cx="13176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492200" y="295596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492200" y="3422520"/>
                <a:ext cx="1440" cy="168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606320" y="3159000"/>
                <a:ext cx="285840" cy="249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672560" y="31939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773000" y="3270240"/>
                <a:ext cx="7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504800" y="3021120"/>
                <a:ext cx="1652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V="1">
                <a:off x="3157200" y="2757600"/>
                <a:ext cx="18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222200" y="2098800"/>
                <a:ext cx="6066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211040" y="1478160"/>
                <a:ext cx="622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69760" y="1677960"/>
                <a:ext cx="211320" cy="239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928080" y="1708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504800" y="892080"/>
                <a:ext cx="1440" cy="59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1504440" y="1106640"/>
                <a:ext cx="2128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3630600" y="1095480"/>
                <a:ext cx="288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471320" y="207504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471320" y="1082880"/>
                <a:ext cx="55800" cy="4572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471320" y="236232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460160" y="299880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830320" y="2086200"/>
                <a:ext cx="55440" cy="5076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471320" y="881280"/>
                <a:ext cx="558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460160" y="3560760"/>
                <a:ext cx="55800" cy="460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763720" y="1393920"/>
                <a:ext cx="185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2482560" y="2711520"/>
                <a:ext cx="184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950760" y="299880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601640" y="2689200"/>
                <a:ext cx="22392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635840" y="2718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728000" y="27939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030480" y="1646280"/>
                <a:ext cx="22680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077280" y="16779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131640" y="175428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550880" y="2413080"/>
                <a:ext cx="27468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608840" y="244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656360" y="251928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201840" y="2638440"/>
                <a:ext cx="27612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261240" y="2668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309120" y="274644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73040" y="2314800"/>
                <a:ext cx="27468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7" name=""/>
              <p:cNvGrpSpPr/>
              <p:nvPr/>
            </p:nvGrpSpPr>
            <p:grpSpPr>
              <a:xfrm>
                <a:off x="518760" y="2187720"/>
                <a:ext cx="238320" cy="292680"/>
                <a:chOff x="518760" y="2187720"/>
                <a:chExt cx="238320" cy="29268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518760" y="218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637560" y="2266920"/>
                  <a:ext cx="119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0" name=""/>
              <p:cNvSpPr/>
              <p:nvPr/>
            </p:nvSpPr>
            <p:spPr>
              <a:xfrm>
                <a:off x="1562040" y="773280"/>
                <a:ext cx="36036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612800" y="8049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731960" y="881280"/>
                <a:ext cx="238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550880" y="3465720"/>
                <a:ext cx="457200" cy="2300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605600" y="3487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695240" y="3503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814040" y="357984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903240" y="238608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8" name=""/>
            <p:cNvSpPr/>
            <p:nvPr/>
          </p:nvSpPr>
          <p:spPr>
            <a:xfrm flipV="1">
              <a:off x="2597040" y="3340080"/>
              <a:ext cx="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03480" y="534528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6400" y="27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2609640" y="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41280" y="892080"/>
            <a:ext cx="44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zastępczy rezonatora kwarc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2800" y="1801800"/>
            <a:ext cx="83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leżność modułu impedancj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jej części urojonej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 pulsacji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5057640" y="398520"/>
            <a:ext cx="3016440" cy="1517760"/>
            <a:chOff x="5057640" y="398520"/>
            <a:chExt cx="3016440" cy="1517760"/>
          </a:xfrm>
        </p:grpSpPr>
        <p:pic>
          <p:nvPicPr>
            <p:cNvPr id="1335" name="" descr=""/>
            <p:cNvPicPr/>
            <p:nvPr/>
          </p:nvPicPr>
          <p:blipFill>
            <a:blip r:embed="rId1"/>
            <a:stretch/>
          </p:blipFill>
          <p:spPr>
            <a:xfrm>
              <a:off x="5057640" y="398520"/>
              <a:ext cx="30164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6" name=""/>
            <p:cNvSpPr/>
            <p:nvPr/>
          </p:nvSpPr>
          <p:spPr>
            <a:xfrm>
              <a:off x="5640480" y="1273320"/>
              <a:ext cx="185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79560" y="9288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Z(j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439560" y="2746440"/>
            <a:ext cx="8288640" cy="3659040"/>
            <a:chOff x="439560" y="2746440"/>
            <a:chExt cx="8288640" cy="3659040"/>
          </a:xfrm>
        </p:grpSpPr>
        <p:grpSp>
          <p:nvGrpSpPr>
            <p:cNvPr id="1339" name=""/>
            <p:cNvGrpSpPr/>
            <p:nvPr/>
          </p:nvGrpSpPr>
          <p:grpSpPr>
            <a:xfrm>
              <a:off x="439560" y="2746440"/>
              <a:ext cx="8288640" cy="3659040"/>
              <a:chOff x="439560" y="2746440"/>
              <a:chExt cx="8288640" cy="3659040"/>
            </a:xfrm>
          </p:grpSpPr>
          <p:sp>
            <p:nvSpPr>
              <p:cNvPr id="1340" name=""/>
              <p:cNvSpPr/>
              <p:nvPr/>
            </p:nvSpPr>
            <p:spPr>
              <a:xfrm>
                <a:off x="4689360" y="5149800"/>
                <a:ext cx="42732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759920" y="518652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133800" y="4309920"/>
                <a:ext cx="5950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3450600" y="4361040"/>
                <a:ext cx="313920" cy="289800"/>
                <a:chOff x="3450600" y="4361040"/>
                <a:chExt cx="313920" cy="28980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3450600" y="436104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3709080" y="448308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6" name=""/>
              <p:cNvSpPr/>
              <p:nvPr/>
            </p:nvSpPr>
            <p:spPr>
              <a:xfrm>
                <a:off x="4245120" y="4294080"/>
                <a:ext cx="596880" cy="35712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7" name=""/>
              <p:cNvGrpSpPr/>
              <p:nvPr/>
            </p:nvGrpSpPr>
            <p:grpSpPr>
              <a:xfrm>
                <a:off x="4266720" y="4368960"/>
                <a:ext cx="312480" cy="289800"/>
                <a:chOff x="4266720" y="4368960"/>
                <a:chExt cx="312480" cy="28980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4266720" y="436896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4523760" y="449100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1069920" y="2746440"/>
                <a:ext cx="187560" cy="3553920"/>
                <a:chOff x="1069920" y="2746440"/>
                <a:chExt cx="187560" cy="355392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1158840" y="2842920"/>
                  <a:ext cx="1800" cy="3457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069920" y="2746440"/>
                  <a:ext cx="187560" cy="107640"/>
                </a:xfrm>
                <a:custGeom>
                  <a:avLst/>
                  <a:gdLst/>
                  <a:ahLst/>
                  <a:rect l="l" t="t" r="r" b="b"/>
                  <a:pathLst>
                    <a:path w="118" h="68">
                      <a:moveTo>
                        <a:pt x="118" y="68"/>
                      </a:moveTo>
                      <a:lnTo>
                        <a:pt x="56" y="0"/>
                      </a:lnTo>
                      <a:lnTo>
                        <a:pt x="0" y="68"/>
                      </a:lnTo>
                      <a:lnTo>
                        <a:pt x="11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3" name=""/>
              <p:cNvSpPr/>
              <p:nvPr/>
            </p:nvSpPr>
            <p:spPr>
              <a:xfrm>
                <a:off x="1185840" y="3479760"/>
                <a:ext cx="392040" cy="177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4" name=""/>
              <p:cNvGrpSpPr/>
              <p:nvPr/>
            </p:nvGrpSpPr>
            <p:grpSpPr>
              <a:xfrm>
                <a:off x="1568520" y="3652920"/>
                <a:ext cx="215640" cy="406080"/>
                <a:chOff x="1568520" y="3652920"/>
                <a:chExt cx="215640" cy="40608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1568520" y="365292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7" y="32"/>
                      </a:lnTo>
                      <a:lnTo>
                        <a:pt x="22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1599840" y="371268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2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3" y="29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1632600" y="377640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1" y="32"/>
                      </a:lnTo>
                      <a:lnTo>
                        <a:pt x="17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1663920" y="383472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4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17" y="32"/>
                      </a:lnTo>
                      <a:lnTo>
                        <a:pt x="23" y="29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1688400" y="3898440"/>
                  <a:ext cx="39960" cy="4536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4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7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8" y="29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1721520" y="3958200"/>
                  <a:ext cx="3960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6" y="29"/>
                      </a:lnTo>
                      <a:lnTo>
                        <a:pt x="16" y="32"/>
                      </a:lnTo>
                      <a:lnTo>
                        <a:pt x="22" y="32"/>
                      </a:lnTo>
                      <a:lnTo>
                        <a:pt x="28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752840" y="4022280"/>
                  <a:ext cx="313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22" y="22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2" name=""/>
              <p:cNvSpPr/>
              <p:nvPr/>
            </p:nvSpPr>
            <p:spPr>
              <a:xfrm>
                <a:off x="1827360" y="4070520"/>
                <a:ext cx="2027160" cy="253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V="1">
                <a:off x="1185840" y="5532480"/>
                <a:ext cx="392040" cy="1778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4" name=""/>
              <p:cNvGrpSpPr/>
              <p:nvPr/>
            </p:nvGrpSpPr>
            <p:grpSpPr>
              <a:xfrm>
                <a:off x="1568520" y="5126040"/>
                <a:ext cx="253440" cy="415440"/>
                <a:chOff x="1568520" y="5126040"/>
                <a:chExt cx="253440" cy="41544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1568520" y="54957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1605240" y="5435280"/>
                  <a:ext cx="3816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2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2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1643760" y="537048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1672200" y="5311080"/>
                  <a:ext cx="4716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7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1709280" y="5246640"/>
                  <a:ext cx="3852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748160" y="51861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1785240" y="5126040"/>
                  <a:ext cx="367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0" y="26"/>
                      </a:move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1" y="26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1" y="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2" name=""/>
              <p:cNvSpPr/>
              <p:nvPr/>
            </p:nvSpPr>
            <p:spPr>
              <a:xfrm flipV="1">
                <a:off x="1827360" y="4849560"/>
                <a:ext cx="1989000" cy="2696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3800520" y="2970360"/>
                <a:ext cx="311040" cy="1339560"/>
              </a:xfrm>
              <a:custGeom>
                <a:avLst/>
                <a:gdLst/>
                <a:ahLst/>
                <a:rect l="l" t="t" r="r" b="b"/>
                <a:pathLst>
                  <a:path w="196" h="844">
                    <a:moveTo>
                      <a:pt x="196" y="0"/>
                    </a:moveTo>
                    <a:lnTo>
                      <a:pt x="174" y="4"/>
                    </a:lnTo>
                    <a:lnTo>
                      <a:pt x="157" y="16"/>
                    </a:lnTo>
                    <a:lnTo>
                      <a:pt x="135" y="39"/>
                    </a:lnTo>
                    <a:lnTo>
                      <a:pt x="118" y="68"/>
                    </a:lnTo>
                    <a:lnTo>
                      <a:pt x="101" y="103"/>
                    </a:lnTo>
                    <a:lnTo>
                      <a:pt x="84" y="145"/>
                    </a:lnTo>
                    <a:lnTo>
                      <a:pt x="67" y="193"/>
                    </a:lnTo>
                    <a:lnTo>
                      <a:pt x="56" y="247"/>
                    </a:lnTo>
                    <a:lnTo>
                      <a:pt x="45" y="308"/>
                    </a:lnTo>
                    <a:lnTo>
                      <a:pt x="34" y="372"/>
                    </a:lnTo>
                    <a:lnTo>
                      <a:pt x="23" y="443"/>
                    </a:lnTo>
                    <a:lnTo>
                      <a:pt x="17" y="517"/>
                    </a:lnTo>
                    <a:lnTo>
                      <a:pt x="11" y="594"/>
                    </a:lnTo>
                    <a:lnTo>
                      <a:pt x="6" y="674"/>
                    </a:lnTo>
                    <a:lnTo>
                      <a:pt x="0" y="844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103640" y="2955960"/>
                <a:ext cx="284040" cy="987480"/>
              </a:xfrm>
              <a:custGeom>
                <a:avLst/>
                <a:gdLst/>
                <a:ahLst/>
                <a:rect l="l" t="t" r="r" b="b"/>
                <a:pathLst>
                  <a:path w="179" h="622">
                    <a:moveTo>
                      <a:pt x="0" y="0"/>
                    </a:moveTo>
                    <a:lnTo>
                      <a:pt x="16" y="3"/>
                    </a:lnTo>
                    <a:lnTo>
                      <a:pt x="39" y="13"/>
                    </a:lnTo>
                    <a:lnTo>
                      <a:pt x="56" y="29"/>
                    </a:lnTo>
                    <a:lnTo>
                      <a:pt x="73" y="48"/>
                    </a:lnTo>
                    <a:lnTo>
                      <a:pt x="84" y="73"/>
                    </a:lnTo>
                    <a:lnTo>
                      <a:pt x="101" y="106"/>
                    </a:lnTo>
                    <a:lnTo>
                      <a:pt x="117" y="141"/>
                    </a:lnTo>
                    <a:lnTo>
                      <a:pt x="129" y="183"/>
                    </a:lnTo>
                    <a:lnTo>
                      <a:pt x="140" y="227"/>
                    </a:lnTo>
                    <a:lnTo>
                      <a:pt x="151" y="276"/>
                    </a:lnTo>
                    <a:lnTo>
                      <a:pt x="157" y="327"/>
                    </a:lnTo>
                    <a:lnTo>
                      <a:pt x="168" y="381"/>
                    </a:lnTo>
                    <a:lnTo>
                      <a:pt x="173" y="497"/>
                    </a:lnTo>
                    <a:lnTo>
                      <a:pt x="179" y="622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816360" y="3703680"/>
                <a:ext cx="179280" cy="1146240"/>
              </a:xfrm>
              <a:custGeom>
                <a:avLst/>
                <a:gdLst/>
                <a:ahLst/>
                <a:rect l="l" t="t" r="r" b="b"/>
                <a:pathLst>
                  <a:path w="89" h="722">
                    <a:moveTo>
                      <a:pt x="89" y="0"/>
                    </a:moveTo>
                    <a:lnTo>
                      <a:pt x="78" y="3"/>
                    </a:lnTo>
                    <a:lnTo>
                      <a:pt x="73" y="16"/>
                    </a:lnTo>
                    <a:lnTo>
                      <a:pt x="61" y="32"/>
                    </a:lnTo>
                    <a:lnTo>
                      <a:pt x="56" y="58"/>
                    </a:lnTo>
                    <a:lnTo>
                      <a:pt x="45" y="87"/>
                    </a:lnTo>
                    <a:lnTo>
                      <a:pt x="39" y="125"/>
                    </a:lnTo>
                    <a:lnTo>
                      <a:pt x="33" y="164"/>
                    </a:lnTo>
                    <a:lnTo>
                      <a:pt x="28" y="212"/>
                    </a:lnTo>
                    <a:lnTo>
                      <a:pt x="22" y="263"/>
                    </a:lnTo>
                    <a:lnTo>
                      <a:pt x="17" y="318"/>
                    </a:lnTo>
                    <a:lnTo>
                      <a:pt x="11" y="379"/>
                    </a:lnTo>
                    <a:lnTo>
                      <a:pt x="5" y="443"/>
                    </a:lnTo>
                    <a:lnTo>
                      <a:pt x="0" y="578"/>
                    </a:lnTo>
                    <a:lnTo>
                      <a:pt x="0" y="722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022640" y="3689280"/>
                <a:ext cx="142920" cy="1144800"/>
              </a:xfrm>
              <a:custGeom>
                <a:avLst/>
                <a:gdLst/>
                <a:ahLst/>
                <a:rect l="l" t="t" r="r" b="b"/>
                <a:pathLst>
                  <a:path w="90" h="721">
                    <a:moveTo>
                      <a:pt x="0" y="0"/>
                    </a:moveTo>
                    <a:lnTo>
                      <a:pt x="11" y="3"/>
                    </a:lnTo>
                    <a:lnTo>
                      <a:pt x="17" y="16"/>
                    </a:lnTo>
                    <a:lnTo>
                      <a:pt x="28" y="32"/>
                    </a:lnTo>
                    <a:lnTo>
                      <a:pt x="34" y="57"/>
                    </a:lnTo>
                    <a:lnTo>
                      <a:pt x="45" y="86"/>
                    </a:lnTo>
                    <a:lnTo>
                      <a:pt x="51" y="125"/>
                    </a:lnTo>
                    <a:lnTo>
                      <a:pt x="56" y="163"/>
                    </a:lnTo>
                    <a:lnTo>
                      <a:pt x="62" y="211"/>
                    </a:lnTo>
                    <a:lnTo>
                      <a:pt x="67" y="263"/>
                    </a:lnTo>
                    <a:lnTo>
                      <a:pt x="73" y="317"/>
                    </a:lnTo>
                    <a:lnTo>
                      <a:pt x="79" y="378"/>
                    </a:lnTo>
                    <a:lnTo>
                      <a:pt x="84" y="442"/>
                    </a:lnTo>
                    <a:lnTo>
                      <a:pt x="90" y="577"/>
                    </a:lnTo>
                    <a:lnTo>
                      <a:pt x="90" y="721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165560" y="4849920"/>
                <a:ext cx="106560" cy="779400"/>
              </a:xfrm>
              <a:custGeom>
                <a:avLst/>
                <a:gdLst/>
                <a:ahLst/>
                <a:rect l="l" t="t" r="r" b="b"/>
                <a:pathLst>
                  <a:path w="67" h="491">
                    <a:moveTo>
                      <a:pt x="67" y="491"/>
                    </a:moveTo>
                    <a:lnTo>
                      <a:pt x="62" y="487"/>
                    </a:lnTo>
                    <a:lnTo>
                      <a:pt x="56" y="481"/>
                    </a:lnTo>
                    <a:lnTo>
                      <a:pt x="45" y="468"/>
                    </a:lnTo>
                    <a:lnTo>
                      <a:pt x="39" y="452"/>
                    </a:lnTo>
                    <a:lnTo>
                      <a:pt x="34" y="433"/>
                    </a:lnTo>
                    <a:lnTo>
                      <a:pt x="28" y="407"/>
                    </a:lnTo>
                    <a:lnTo>
                      <a:pt x="22" y="378"/>
                    </a:lnTo>
                    <a:lnTo>
                      <a:pt x="17" y="346"/>
                    </a:lnTo>
                    <a:lnTo>
                      <a:pt x="11" y="276"/>
                    </a:lnTo>
                    <a:lnTo>
                      <a:pt x="5" y="192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299120" y="5500800"/>
                <a:ext cx="142560" cy="96840"/>
              </a:xfrm>
              <a:custGeom>
                <a:avLst/>
                <a:gdLst/>
                <a:ahLst/>
                <a:rect l="l" t="t" r="r" b="b"/>
                <a:pathLst>
                  <a:path w="90" h="61">
                    <a:moveTo>
                      <a:pt x="0" y="61"/>
                    </a:moveTo>
                    <a:lnTo>
                      <a:pt x="34" y="58"/>
                    </a:lnTo>
                    <a:lnTo>
                      <a:pt x="62" y="45"/>
                    </a:lnTo>
                    <a:lnTo>
                      <a:pt x="84" y="26"/>
                    </a:lnTo>
                    <a:lnTo>
                      <a:pt x="9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467240" y="4834080"/>
                <a:ext cx="693720" cy="682560"/>
              </a:xfrm>
              <a:custGeom>
                <a:avLst/>
                <a:gdLst/>
                <a:ahLst/>
                <a:rect l="l" t="t" r="r" b="b"/>
                <a:pathLst>
                  <a:path w="437" h="430">
                    <a:moveTo>
                      <a:pt x="437" y="0"/>
                    </a:moveTo>
                    <a:lnTo>
                      <a:pt x="393" y="3"/>
                    </a:lnTo>
                    <a:lnTo>
                      <a:pt x="348" y="10"/>
                    </a:lnTo>
                    <a:lnTo>
                      <a:pt x="308" y="19"/>
                    </a:lnTo>
                    <a:lnTo>
                      <a:pt x="269" y="36"/>
                    </a:lnTo>
                    <a:lnTo>
                      <a:pt x="230" y="52"/>
                    </a:lnTo>
                    <a:lnTo>
                      <a:pt x="191" y="74"/>
                    </a:lnTo>
                    <a:lnTo>
                      <a:pt x="157" y="100"/>
                    </a:lnTo>
                    <a:lnTo>
                      <a:pt x="129" y="125"/>
                    </a:lnTo>
                    <a:lnTo>
                      <a:pt x="73" y="189"/>
                    </a:lnTo>
                    <a:lnTo>
                      <a:pt x="34" y="263"/>
                    </a:lnTo>
                    <a:lnTo>
                      <a:pt x="12" y="343"/>
                    </a:lnTo>
                    <a:lnTo>
                      <a:pt x="0" y="43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0" name=""/>
              <p:cNvGrpSpPr/>
              <p:nvPr/>
            </p:nvGrpSpPr>
            <p:grpSpPr>
              <a:xfrm>
                <a:off x="3844800" y="4813200"/>
                <a:ext cx="1513080" cy="41400"/>
                <a:chOff x="3844800" y="4813200"/>
                <a:chExt cx="1513080" cy="4140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844800" y="484488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6" y="0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88152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391644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3951360" y="484488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398772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02264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05936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09428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12920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416556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20048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23720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427212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43084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3434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4378320" y="483372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44146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4496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448632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452124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556160" y="482904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59252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462744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66416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469908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473400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77036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80528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484200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487692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491184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494820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4983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01984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05476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091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12604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5160960" y="481932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1973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232240" y="48132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526896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530388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5338800" y="48132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 flipV="1">
                <a:off x="5214960" y="4768560"/>
                <a:ext cx="2757600" cy="507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414680" y="3892680"/>
                <a:ext cx="1217880" cy="606240"/>
              </a:xfrm>
              <a:custGeom>
                <a:avLst/>
                <a:gdLst/>
                <a:ahLst/>
                <a:rect l="l" t="t" r="r" b="b"/>
                <a:pathLst>
                  <a:path w="767" h="382">
                    <a:moveTo>
                      <a:pt x="767" y="382"/>
                    </a:moveTo>
                    <a:lnTo>
                      <a:pt x="689" y="378"/>
                    </a:lnTo>
                    <a:lnTo>
                      <a:pt x="610" y="375"/>
                    </a:lnTo>
                    <a:lnTo>
                      <a:pt x="538" y="366"/>
                    </a:lnTo>
                    <a:lnTo>
                      <a:pt x="470" y="353"/>
                    </a:lnTo>
                    <a:lnTo>
                      <a:pt x="403" y="337"/>
                    </a:lnTo>
                    <a:lnTo>
                      <a:pt x="336" y="317"/>
                    </a:lnTo>
                    <a:lnTo>
                      <a:pt x="224" y="269"/>
                    </a:lnTo>
                    <a:lnTo>
                      <a:pt x="173" y="244"/>
                    </a:lnTo>
                    <a:lnTo>
                      <a:pt x="129" y="215"/>
                    </a:lnTo>
                    <a:lnTo>
                      <a:pt x="89" y="183"/>
                    </a:lnTo>
                    <a:lnTo>
                      <a:pt x="61" y="147"/>
                    </a:lnTo>
                    <a:lnTo>
                      <a:pt x="33" y="115"/>
                    </a:lnTo>
                    <a:lnTo>
                      <a:pt x="17" y="77"/>
                    </a:lnTo>
                    <a:lnTo>
                      <a:pt x="5" y="38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632560" y="4498920"/>
                <a:ext cx="2197080" cy="65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800520" y="4309920"/>
                <a:ext cx="1440" cy="366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 flipV="1">
                <a:off x="4128840" y="2970360"/>
                <a:ext cx="36360" cy="1706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067280" y="2940120"/>
                <a:ext cx="115920" cy="61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12272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722760" y="426564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75300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35040" y="4529160"/>
                <a:ext cx="426960" cy="3096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50600" y="456876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131320" y="4722840"/>
                <a:ext cx="5968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300520" y="4748040"/>
                <a:ext cx="148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187800" y="3098880"/>
                <a:ext cx="58572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8" name=""/>
              <p:cNvGrpSpPr/>
              <p:nvPr/>
            </p:nvGrpSpPr>
            <p:grpSpPr>
              <a:xfrm>
                <a:off x="3319560" y="3165480"/>
                <a:ext cx="280800" cy="228600"/>
                <a:chOff x="3319560" y="3165480"/>
                <a:chExt cx="280800" cy="22860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331956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359892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3365280" y="316548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2" name=""/>
              <p:cNvSpPr/>
              <p:nvPr/>
            </p:nvSpPr>
            <p:spPr>
              <a:xfrm>
                <a:off x="439560" y="2813040"/>
                <a:ext cx="57816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3" name=""/>
              <p:cNvGrpSpPr/>
              <p:nvPr/>
            </p:nvGrpSpPr>
            <p:grpSpPr>
              <a:xfrm>
                <a:off x="566640" y="2881440"/>
                <a:ext cx="281160" cy="228600"/>
                <a:chOff x="566640" y="2881440"/>
                <a:chExt cx="281160" cy="228600"/>
              </a:xfrm>
            </p:grpSpPr>
            <p:sp>
              <p:nvSpPr>
                <p:cNvPr id="1444" name=""/>
                <p:cNvSpPr/>
                <p:nvPr/>
              </p:nvSpPr>
              <p:spPr>
                <a:xfrm>
                  <a:off x="56664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84600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10920" y="288144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7" name=""/>
              <p:cNvSpPr/>
              <p:nvPr/>
            </p:nvSpPr>
            <p:spPr>
              <a:xfrm>
                <a:off x="519120" y="3276720"/>
                <a:ext cx="426960" cy="30456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07320" y="331164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199040" y="2963880"/>
                <a:ext cx="1112760" cy="1440"/>
              </a:xfrm>
              <a:custGeom>
                <a:avLst/>
                <a:gdLst/>
                <a:ahLst/>
                <a:rect l="l" t="t" r="r" b="b"/>
                <a:pathLst>
                  <a:path w="701" h="0">
                    <a:moveTo>
                      <a:pt x="0" y="0"/>
                    </a:moveTo>
                    <a:lnTo>
                      <a:pt x="353" y="0"/>
                    </a:lnTo>
                    <a:lnTo>
                      <a:pt x="70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0" name=""/>
              <p:cNvGrpSpPr/>
              <p:nvPr/>
            </p:nvGrpSpPr>
            <p:grpSpPr>
              <a:xfrm>
                <a:off x="5626080" y="2847960"/>
                <a:ext cx="749160" cy="306000"/>
                <a:chOff x="5626080" y="2847960"/>
                <a:chExt cx="749160" cy="30600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562608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37380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5670720" y="285876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5867280" y="29556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5" name=""/>
              <p:cNvSpPr/>
              <p:nvPr/>
            </p:nvSpPr>
            <p:spPr>
              <a:xfrm>
                <a:off x="3951360" y="3689280"/>
                <a:ext cx="12528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105440" y="3735360"/>
                <a:ext cx="1503360" cy="1440"/>
              </a:xfrm>
              <a:custGeom>
                <a:avLst/>
                <a:gdLst/>
                <a:ahLst/>
                <a:rect l="l" t="t" r="r" b="b"/>
                <a:pathLst>
                  <a:path w="947" h="0">
                    <a:moveTo>
                      <a:pt x="0" y="0"/>
                    </a:moveTo>
                    <a:lnTo>
                      <a:pt x="470" y="0"/>
                    </a:lnTo>
                    <a:lnTo>
                      <a:pt x="94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7" name=""/>
              <p:cNvGrpSpPr/>
              <p:nvPr/>
            </p:nvGrpSpPr>
            <p:grpSpPr>
              <a:xfrm>
                <a:off x="5919840" y="3592440"/>
                <a:ext cx="849240" cy="570600"/>
                <a:chOff x="5919840" y="3592440"/>
                <a:chExt cx="849240" cy="57060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596736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671184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5919840" y="3889080"/>
                  <a:ext cx="84924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011640" y="3603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6207120" y="36954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6258960" y="391932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4" name=""/>
              <p:cNvSpPr/>
              <p:nvPr/>
            </p:nvSpPr>
            <p:spPr>
              <a:xfrm>
                <a:off x="5686560" y="4834080"/>
                <a:ext cx="950760" cy="53964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0" y="0"/>
                    </a:moveTo>
                    <a:lnTo>
                      <a:pt x="302" y="340"/>
                    </a:lnTo>
                    <a:lnTo>
                      <a:pt x="599" y="34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5" name=""/>
              <p:cNvGrpSpPr/>
              <p:nvPr/>
            </p:nvGrpSpPr>
            <p:grpSpPr>
              <a:xfrm>
                <a:off x="6990480" y="5205240"/>
                <a:ext cx="867600" cy="538560"/>
                <a:chOff x="6990480" y="5205240"/>
                <a:chExt cx="867600" cy="538560"/>
              </a:xfrm>
            </p:grpSpPr>
            <p:sp>
              <p:nvSpPr>
                <p:cNvPr id="1466" name=""/>
                <p:cNvSpPr/>
                <p:nvPr/>
              </p:nvSpPr>
              <p:spPr>
                <a:xfrm>
                  <a:off x="7234200" y="5448240"/>
                  <a:ext cx="62388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990480" y="5311800"/>
                  <a:ext cx="64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7466760" y="5205240"/>
                  <a:ext cx="968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7678440" y="556092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7243200" y="5454360"/>
                  <a:ext cx="13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470720" y="5476680"/>
                  <a:ext cx="127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2" name=""/>
              <p:cNvSpPr/>
              <p:nvPr/>
            </p:nvSpPr>
            <p:spPr>
              <a:xfrm>
                <a:off x="2147760" y="5118120"/>
                <a:ext cx="621000" cy="882720"/>
              </a:xfrm>
              <a:custGeom>
                <a:avLst/>
                <a:gdLst/>
                <a:ahLst/>
                <a:rect l="l" t="t" r="r" b="b"/>
                <a:pathLst>
                  <a:path w="403" h="613">
                    <a:moveTo>
                      <a:pt x="0" y="0"/>
                    </a:moveTo>
                    <a:lnTo>
                      <a:pt x="202" y="613"/>
                    </a:lnTo>
                    <a:lnTo>
                      <a:pt x="403" y="61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3" name=""/>
              <p:cNvGrpSpPr/>
              <p:nvPr/>
            </p:nvGrpSpPr>
            <p:grpSpPr>
              <a:xfrm>
                <a:off x="3128400" y="5815080"/>
                <a:ext cx="1783440" cy="590400"/>
                <a:chOff x="3128400" y="5815080"/>
                <a:chExt cx="1783440" cy="59040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362664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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477432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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3368520" y="6080040"/>
                  <a:ext cx="15433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3128400" y="5930640"/>
                  <a:ext cx="6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4176000" y="6091200"/>
                  <a:ext cx="119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4061880" y="581508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3957480" y="620532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3378240" y="6091200"/>
                  <a:ext cx="13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375048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443160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4647600" y="6207120"/>
                  <a:ext cx="648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1800360" y="4600440"/>
                <a:ext cx="6696000" cy="168120"/>
                <a:chOff x="1800360" y="4600440"/>
                <a:chExt cx="6696000" cy="16812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1800360" y="4681440"/>
                  <a:ext cx="6429240" cy="144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212320" y="4600440"/>
                  <a:ext cx="284040" cy="168120"/>
                </a:xfrm>
                <a:custGeom>
                  <a:avLst/>
                  <a:gdLst/>
                  <a:ahLst/>
                  <a:rect l="l" t="t" r="r" b="b"/>
                  <a:pathLst>
                    <a:path w="179" h="106">
                      <a:moveTo>
                        <a:pt x="0" y="106"/>
                      </a:moveTo>
                      <a:lnTo>
                        <a:pt x="179" y="51"/>
                      </a:lnTo>
                      <a:lnTo>
                        <a:pt x="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1123920" y="4676760"/>
                <a:ext cx="666720" cy="14040"/>
                <a:chOff x="1123920" y="4676760"/>
                <a:chExt cx="666720" cy="1404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16668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5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14796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1292400" y="4676760"/>
                  <a:ext cx="125280" cy="14040"/>
                </a:xfrm>
                <a:custGeom>
                  <a:avLst/>
                  <a:gdLst/>
                  <a:ahLst/>
                  <a:rect l="l" t="t" r="r" b="b"/>
                  <a:pathLst>
                    <a:path w="79" h="9">
                      <a:moveTo>
                        <a:pt x="79" y="9"/>
                      </a:move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2" y="9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1123920" y="4676760"/>
                  <a:ext cx="106560" cy="1404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7" y="9"/>
                      </a:moveTo>
                      <a:lnTo>
                        <a:pt x="67" y="3"/>
                      </a:lnTo>
                      <a:lnTo>
                        <a:pt x="67" y="3"/>
                      </a:lnTo>
                      <a:lnTo>
                        <a:pt x="62" y="0"/>
                      </a:lnTo>
                      <a:lnTo>
                        <a:pt x="62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6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3" name=""/>
              <p:cNvSpPr/>
              <p:nvPr/>
            </p:nvSpPr>
            <p:spPr>
              <a:xfrm>
                <a:off x="3135240" y="4319640"/>
                <a:ext cx="1800" cy="3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865600" y="4457880"/>
                <a:ext cx="2458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575800" y="4307040"/>
                <a:ext cx="2566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~R</a:t>
                </a:r>
                <a:r>
                  <a:rPr b="0" i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933640" y="4324320"/>
                <a:ext cx="81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7" name=""/>
            <p:cNvSpPr/>
            <p:nvPr/>
          </p:nvSpPr>
          <p:spPr>
            <a:xfrm>
              <a:off x="1258920" y="380052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ci graniczne i uboczne (pasożytnic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6160" y="1549440"/>
            <a:ext cx="8634240" cy="31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zystkie oscylatory zawierają elementy nieliniowe ograniczające amplitudę drga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te powodują generację sygnałów o częstotliwościach harmonic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ewnych układach harmoniczne oscylatora wykorzystuje się do powielan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ęstotliwości lub do synchronizacji innych, mniej stabilnych oscylator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e wszystkich układach niepożądane harmoniczne dostając się na wyjście mog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ć fałszywe sygnały, gwizdy interferencyjne, zniekształcenia intermodulacyj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136440" y="93204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schematu zastępczego widać, że rezonator ma dwa rezonan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zereg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038400" y="1438200"/>
                <a:ext cx="1797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0" name=""/>
          <p:cNvSpPr/>
          <p:nvPr/>
        </p:nvSpPr>
        <p:spPr>
          <a:xfrm>
            <a:off x="146880" y="35053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ównoleg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2527200" y="3195720"/>
                <a:ext cx="460692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2" name=""/>
              <p:cNvSpPr txBox="1"/>
              <p:nvPr/>
            </p:nvSpPr>
            <p:spPr>
              <a:xfrm>
                <a:off x="3699000" y="5429160"/>
                <a:ext cx="118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3" name=""/>
          <p:cNvGraphicFramePr/>
          <p:nvPr/>
        </p:nvGraphicFramePr>
        <p:xfrm>
          <a:off x="0" y="1744560"/>
          <a:ext cx="8782200" cy="175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87822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5" name=""/>
          <p:cNvSpPr/>
          <p:nvPr/>
        </p:nvSpPr>
        <p:spPr>
          <a:xfrm>
            <a:off x="0" y="55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owe parametry rezonatorów kwarc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6" name=""/>
          <p:cNvGraphicFramePr/>
          <p:nvPr/>
        </p:nvGraphicFramePr>
        <p:xfrm>
          <a:off x="1154160" y="1127160"/>
          <a:ext cx="684036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127160"/>
                    <a:ext cx="684036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"/>
          <p:cNvSpPr/>
          <p:nvPr/>
        </p:nvSpPr>
        <p:spPr>
          <a:xfrm>
            <a:off x="146160" y="0"/>
            <a:ext cx="914400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y temperaturowe nominalnych częstotliwości rezonatorów kwarcowych o różnych cięciach kryształu kwar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Pi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0" name="" descr=""/>
          <p:cNvPicPr/>
          <p:nvPr/>
        </p:nvPicPr>
        <p:blipFill>
          <a:blip r:embed="rId1"/>
          <a:stretch/>
        </p:blipFill>
        <p:spPr>
          <a:xfrm>
            <a:off x="146160" y="1646280"/>
            <a:ext cx="3330360" cy="3244680"/>
          </a:xfrm>
          <a:prstGeom prst="rect">
            <a:avLst/>
          </a:prstGeom>
          <a:ln w="0">
            <a:noFill/>
          </a:ln>
        </p:spPr>
      </p:pic>
      <p:sp>
        <p:nvSpPr>
          <p:cNvPr id="1511" name=""/>
          <p:cNvSpPr/>
          <p:nvPr/>
        </p:nvSpPr>
        <p:spPr>
          <a:xfrm>
            <a:off x="414360" y="927000"/>
            <a:ext cx="67356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ktura generatora Piercea;  odpowiednik generatora Colpitt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52880" y="5132520"/>
            <a:ext cx="57643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arc pracuje jako </a:t>
            </a:r>
            <a:r>
              <a:rPr b="0" lang="en-US" sz="2000" spc="-1" strike="noStrike">
                <a:solidFill>
                  <a:srgbClr val="00cc66"/>
                </a:solidFill>
                <a:latin typeface="Times New Roman"/>
              </a:rPr>
              <a:t>indukcyjność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częstotliwośc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66"/>
                </a:solidFill>
                <a:uFillTx/>
                <a:latin typeface="Times New Roman"/>
              </a:rPr>
              <a:t>pomiędz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rezonansem szeregowym a równoległ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3386160" y="1749600"/>
            <a:ext cx="5460840" cy="3487680"/>
            <a:chOff x="3386160" y="1749600"/>
            <a:chExt cx="5460840" cy="3487680"/>
          </a:xfrm>
        </p:grpSpPr>
        <p:grpSp>
          <p:nvGrpSpPr>
            <p:cNvPr id="1514" name=""/>
            <p:cNvGrpSpPr/>
            <p:nvPr/>
          </p:nvGrpSpPr>
          <p:grpSpPr>
            <a:xfrm>
              <a:off x="3386160" y="1749600"/>
              <a:ext cx="5460840" cy="3487680"/>
              <a:chOff x="3386160" y="1749600"/>
              <a:chExt cx="5460840" cy="3487680"/>
            </a:xfrm>
          </p:grpSpPr>
          <p:sp>
            <p:nvSpPr>
              <p:cNvPr id="1515" name=""/>
              <p:cNvSpPr/>
              <p:nvPr/>
            </p:nvSpPr>
            <p:spPr>
              <a:xfrm>
                <a:off x="8464680" y="3586320"/>
                <a:ext cx="382320" cy="223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386160" y="2297160"/>
                <a:ext cx="506520" cy="236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338880" y="2481120"/>
                <a:ext cx="119160" cy="1505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099200" y="3767040"/>
                <a:ext cx="3715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164360" y="3790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740560" y="3238560"/>
                <a:ext cx="520560" cy="225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1" name=""/>
              <p:cNvGrpSpPr/>
              <p:nvPr/>
            </p:nvGrpSpPr>
            <p:grpSpPr>
              <a:xfrm>
                <a:off x="5914440" y="3195720"/>
                <a:ext cx="284760" cy="298440"/>
                <a:chOff x="5914440" y="3195720"/>
                <a:chExt cx="284760" cy="29844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5914440" y="319572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6128280" y="328068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6711840" y="3228840"/>
                <a:ext cx="520920" cy="223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798960" y="319896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019640" y="323532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7" name=""/>
              <p:cNvGrpSpPr/>
              <p:nvPr/>
            </p:nvGrpSpPr>
            <p:grpSpPr>
              <a:xfrm>
                <a:off x="3938760" y="2255760"/>
                <a:ext cx="161280" cy="2236320"/>
                <a:chOff x="3938760" y="2255760"/>
                <a:chExt cx="161280" cy="223632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4015080" y="2314800"/>
                  <a:ext cx="2160" cy="217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3938760" y="2255760"/>
                  <a:ext cx="161280" cy="673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0" name=""/>
              <p:cNvSpPr/>
              <p:nvPr/>
            </p:nvSpPr>
            <p:spPr>
              <a:xfrm>
                <a:off x="4040280" y="2716200"/>
                <a:ext cx="34128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1" name=""/>
              <p:cNvGrpSpPr/>
              <p:nvPr/>
            </p:nvGrpSpPr>
            <p:grpSpPr>
              <a:xfrm>
                <a:off x="4373640" y="2824200"/>
                <a:ext cx="227880" cy="277560"/>
                <a:chOff x="4373640" y="2824200"/>
                <a:chExt cx="227880" cy="277560"/>
              </a:xfrm>
            </p:grpSpPr>
            <p:sp>
              <p:nvSpPr>
                <p:cNvPr id="1532" name=""/>
                <p:cNvSpPr/>
                <p:nvPr/>
              </p:nvSpPr>
              <p:spPr>
                <a:xfrm>
                  <a:off x="4373640" y="28242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4406760" y="2864880"/>
                  <a:ext cx="33120" cy="306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4440240" y="29088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4473720" y="2949480"/>
                  <a:ext cx="35640" cy="306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4501440" y="299376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534920" y="303444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568400" y="3076920"/>
                  <a:ext cx="33120" cy="2484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9" name=""/>
              <p:cNvSpPr/>
              <p:nvPr/>
            </p:nvSpPr>
            <p:spPr>
              <a:xfrm>
                <a:off x="4600440" y="3089160"/>
                <a:ext cx="1770120" cy="16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V="1">
                <a:off x="4040280" y="4008600"/>
                <a:ext cx="341280" cy="11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1" name=""/>
              <p:cNvGrpSpPr/>
              <p:nvPr/>
            </p:nvGrpSpPr>
            <p:grpSpPr>
              <a:xfrm>
                <a:off x="4373640" y="3743280"/>
                <a:ext cx="227880" cy="270720"/>
                <a:chOff x="4373640" y="3743280"/>
                <a:chExt cx="227880" cy="27072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4373640" y="398484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4406760" y="39459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4440240" y="3902760"/>
                  <a:ext cx="33120" cy="298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4465080" y="3863880"/>
                  <a:ext cx="44640" cy="291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4501440" y="3821040"/>
                  <a:ext cx="33120" cy="31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4534920" y="37821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4568400" y="3743280"/>
                  <a:ext cx="33120" cy="277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9" name=""/>
              <p:cNvSpPr/>
              <p:nvPr/>
            </p:nvSpPr>
            <p:spPr>
              <a:xfrm flipV="1">
                <a:off x="4600440" y="3591000"/>
                <a:ext cx="1671840" cy="156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302520" y="2392200"/>
                <a:ext cx="344520" cy="84636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588000" y="2386080"/>
                <a:ext cx="249480" cy="6206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296040" y="2855880"/>
                <a:ext cx="200160" cy="72252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519960" y="2847960"/>
                <a:ext cx="122040" cy="72072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642000" y="3578400"/>
                <a:ext cx="93600" cy="49032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757920" y="3989520"/>
                <a:ext cx="125640" cy="601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907320" y="3568680"/>
                <a:ext cx="604800" cy="43020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7" name=""/>
              <p:cNvGrpSpPr/>
              <p:nvPr/>
            </p:nvGrpSpPr>
            <p:grpSpPr>
              <a:xfrm>
                <a:off x="6361200" y="3556080"/>
                <a:ext cx="1321560" cy="26640"/>
                <a:chOff x="6361200" y="3556080"/>
                <a:chExt cx="1321560" cy="26640"/>
              </a:xfrm>
            </p:grpSpPr>
            <p:sp>
              <p:nvSpPr>
                <p:cNvPr id="1558" name=""/>
                <p:cNvSpPr/>
                <p:nvPr/>
              </p:nvSpPr>
              <p:spPr>
                <a:xfrm>
                  <a:off x="6361200" y="35744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39180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642276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45372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48684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51780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54876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57972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61068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664164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67260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6703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67338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764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6795360" y="356832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6829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686016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6890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692136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695232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698328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701424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704520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70761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1067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137720" y="356256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171200" y="356256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20180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23276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26372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29468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32564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73566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3875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41780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744876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479720" y="355824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5132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75441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75747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76053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763632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766728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1" name=""/>
              <p:cNvSpPr/>
              <p:nvPr/>
            </p:nvSpPr>
            <p:spPr>
              <a:xfrm>
                <a:off x="6861240" y="2975040"/>
                <a:ext cx="1065240" cy="38088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6489720" y="2916360"/>
                <a:ext cx="3240" cy="10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588000" y="235908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603840" y="3443400"/>
                <a:ext cx="84240" cy="7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237360" y="3201840"/>
                <a:ext cx="10296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262560" y="3433680"/>
                <a:ext cx="874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559320" y="3376440"/>
                <a:ext cx="371160" cy="19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658320" y="3402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8470800" y="351468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786280" y="2476440"/>
                <a:ext cx="514440" cy="238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1" name=""/>
              <p:cNvGrpSpPr/>
              <p:nvPr/>
            </p:nvGrpSpPr>
            <p:grpSpPr>
              <a:xfrm>
                <a:off x="3497400" y="2338560"/>
                <a:ext cx="245520" cy="213480"/>
                <a:chOff x="3497400" y="2338560"/>
                <a:chExt cx="245520" cy="213480"/>
              </a:xfrm>
            </p:grpSpPr>
            <p:sp>
              <p:nvSpPr>
                <p:cNvPr id="1612" name=""/>
                <p:cNvSpPr/>
                <p:nvPr/>
              </p:nvSpPr>
              <p:spPr>
                <a:xfrm>
                  <a:off x="349740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374004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538440" y="2338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5" name=""/>
              <p:cNvSpPr/>
              <p:nvPr/>
            </p:nvSpPr>
            <p:spPr>
              <a:xfrm>
                <a:off x="3456000" y="2589120"/>
                <a:ext cx="372960" cy="192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534840" y="26114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456240" y="283536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8" name=""/>
              <p:cNvGrpSpPr/>
              <p:nvPr/>
            </p:nvGrpSpPr>
            <p:grpSpPr>
              <a:xfrm>
                <a:off x="4576680" y="3421080"/>
                <a:ext cx="4030200" cy="105840"/>
                <a:chOff x="4576680" y="3421080"/>
                <a:chExt cx="4030200" cy="105840"/>
              </a:xfrm>
            </p:grpSpPr>
            <p:sp>
              <p:nvSpPr>
                <p:cNvPr id="1619" name=""/>
                <p:cNvSpPr/>
                <p:nvPr/>
              </p:nvSpPr>
              <p:spPr>
                <a:xfrm>
                  <a:off x="4576680" y="3472920"/>
                  <a:ext cx="38714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8436960" y="3421080"/>
                  <a:ext cx="169920" cy="1058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1" name=""/>
              <p:cNvGrpSpPr/>
              <p:nvPr/>
            </p:nvGrpSpPr>
            <p:grpSpPr>
              <a:xfrm>
                <a:off x="3986280" y="3468600"/>
                <a:ext cx="580680" cy="10800"/>
                <a:chOff x="3986280" y="3468600"/>
                <a:chExt cx="580680" cy="10800"/>
              </a:xfrm>
            </p:grpSpPr>
            <p:sp>
              <p:nvSpPr>
                <p:cNvPr id="1622" name=""/>
                <p:cNvSpPr/>
                <p:nvPr/>
              </p:nvSpPr>
              <p:spPr>
                <a:xfrm>
                  <a:off x="445680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4295880" y="3468600"/>
                  <a:ext cx="107280" cy="1080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413172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3986280" y="3468600"/>
                  <a:ext cx="92160" cy="1080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6" name=""/>
              <p:cNvSpPr/>
              <p:nvPr/>
            </p:nvSpPr>
            <p:spPr>
              <a:xfrm flipV="1">
                <a:off x="5929200" y="4006800"/>
                <a:ext cx="451080" cy="1230480"/>
              </a:xfrm>
              <a:prstGeom prst="line">
                <a:avLst/>
              </a:prstGeom>
              <a:ln w="1908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291360" y="3390840"/>
                <a:ext cx="0" cy="6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105160" y="1749600"/>
                <a:ext cx="326232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Indukcyjność zastępcza 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 kwarcu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0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ma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306200" y="2678040"/>
                <a:ext cx="740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=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H="1" flipV="1">
                <a:off x="6568920" y="2857320"/>
                <a:ext cx="7178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888440" y="3917880"/>
                <a:ext cx="5436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V="1">
                <a:off x="5541840" y="3513240"/>
                <a:ext cx="71784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3" name=""/>
            <p:cNvSpPr/>
            <p:nvPr/>
          </p:nvSpPr>
          <p:spPr>
            <a:xfrm>
              <a:off x="4079880" y="429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4" name=""/>
          <p:cNvGraphicFramePr/>
          <p:nvPr/>
        </p:nvGraphicFramePr>
        <p:xfrm>
          <a:off x="1247760" y="2079720"/>
          <a:ext cx="655488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2079720"/>
                    <a:ext cx="6554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6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ąpienie indukcyjności rezona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"/>
          <p:cNvSpPr/>
          <p:nvPr/>
        </p:nvSpPr>
        <p:spPr>
          <a:xfrm>
            <a:off x="976680" y="272880"/>
            <a:ext cx="67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Colpitssa-Pierce’a na bramkach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rot="5400000">
            <a:off x="2757600" y="2735280"/>
            <a:ext cx="105696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767040" y="3105000"/>
            <a:ext cx="158760" cy="15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925800" y="3197160"/>
            <a:ext cx="1414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1990800" y="31971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755080" y="2968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rot="10800000">
            <a:off x="4346280" y="3349440"/>
            <a:ext cx="158760" cy="446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425840" y="319716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425840" y="38070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4095720" y="316404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017880" y="4294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209760" y="4294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057480" y="4264200"/>
            <a:ext cx="11592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209760" y="4416480"/>
            <a:ext cx="12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990800" y="4416480"/>
            <a:ext cx="100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1990800" y="31968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rot="5400000">
            <a:off x="3048480" y="3739320"/>
            <a:ext cx="158760" cy="446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362400" y="39592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4124160" y="31968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990800" y="3959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957320" y="393372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1899720" y="4645080"/>
            <a:ext cx="228600" cy="77760"/>
            <a:chOff x="1899720" y="4645080"/>
            <a:chExt cx="228600" cy="77760"/>
          </a:xfrm>
        </p:grpSpPr>
        <p:sp>
          <p:nvSpPr>
            <p:cNvPr id="1659" name=""/>
            <p:cNvSpPr/>
            <p:nvPr/>
          </p:nvSpPr>
          <p:spPr>
            <a:xfrm flipH="1">
              <a:off x="1899720" y="4645080"/>
              <a:ext cx="215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1899720" y="47214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1990800" y="4416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68480" y="438768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1990800" y="4721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4331880" y="4645080"/>
            <a:ext cx="228600" cy="77760"/>
            <a:chOff x="4331880" y="4645080"/>
            <a:chExt cx="228600" cy="77760"/>
          </a:xfrm>
        </p:grpSpPr>
        <p:sp>
          <p:nvSpPr>
            <p:cNvPr id="1665" name=""/>
            <p:cNvSpPr/>
            <p:nvPr/>
          </p:nvSpPr>
          <p:spPr>
            <a:xfrm flipH="1">
              <a:off x="4331880" y="4645080"/>
              <a:ext cx="215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4331880" y="47214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4425840" y="4416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400640" y="438768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307040" y="495000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4425840" y="4721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389480" y="3156120"/>
            <a:ext cx="54000" cy="53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874880" y="495000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197160" y="2496960"/>
            <a:ext cx="71640" cy="71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3232080" y="2587320"/>
            <a:ext cx="0" cy="31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122640" y="371628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3246480" y="35017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334320" y="2130480"/>
            <a:ext cx="50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8" name=""/>
          <p:cNvGrpSpPr/>
          <p:nvPr/>
        </p:nvGrpSpPr>
        <p:grpSpPr>
          <a:xfrm>
            <a:off x="5255640" y="2282760"/>
            <a:ext cx="2682360" cy="2209680"/>
            <a:chOff x="5255640" y="2282760"/>
            <a:chExt cx="2682360" cy="2209680"/>
          </a:xfrm>
        </p:grpSpPr>
        <p:sp>
          <p:nvSpPr>
            <p:cNvPr id="1679" name=""/>
            <p:cNvSpPr/>
            <p:nvPr/>
          </p:nvSpPr>
          <p:spPr>
            <a:xfrm>
              <a:off x="6937560" y="321948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956640" y="417348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882120" y="447840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7005960" y="42638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7005960" y="33494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326000" y="357840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rot="5400000">
              <a:off x="5257800" y="2811240"/>
              <a:ext cx="105732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267600" y="3181320"/>
              <a:ext cx="158760" cy="158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255640" y="304488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448680" y="3262320"/>
              <a:ext cx="50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662800" y="37162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V="1">
              <a:off x="5786640" y="3501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737320" y="2573280"/>
              <a:ext cx="7164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5776920" y="2657160"/>
              <a:ext cx="0" cy="36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874480" y="228276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1952640" y="39592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 MO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387680" y="388296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00 kO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36920" y="4492800"/>
            <a:ext cx="115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623120" y="4492800"/>
            <a:ext cx="115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55560" y="942840"/>
            <a:ext cx="4516560" cy="53564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805680" y="1441440"/>
            <a:ext cx="13345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880520" y="152712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517760" y="2028960"/>
            <a:ext cx="2770200" cy="2260440"/>
          </a:xfrm>
          <a:custGeom>
            <a:avLst/>
            <a:gdLst/>
            <a:ahLst/>
            <a:rect l="l" t="t" r="r" b="b"/>
            <a:pathLst>
              <a:path w="1745" h="1424">
                <a:moveTo>
                  <a:pt x="922" y="0"/>
                </a:moveTo>
                <a:cubicBezTo>
                  <a:pt x="999" y="34"/>
                  <a:pt x="1254" y="97"/>
                  <a:pt x="1379" y="203"/>
                </a:cubicBezTo>
                <a:cubicBezTo>
                  <a:pt x="1504" y="309"/>
                  <a:pt x="1616" y="474"/>
                  <a:pt x="1670" y="639"/>
                </a:cubicBezTo>
                <a:cubicBezTo>
                  <a:pt x="1724" y="804"/>
                  <a:pt x="1745" y="1071"/>
                  <a:pt x="1701" y="1192"/>
                </a:cubicBezTo>
                <a:cubicBezTo>
                  <a:pt x="1657" y="1313"/>
                  <a:pt x="1637" y="1333"/>
                  <a:pt x="1405" y="1364"/>
                </a:cubicBezTo>
                <a:cubicBezTo>
                  <a:pt x="1173" y="1395"/>
                  <a:pt x="540" y="1424"/>
                  <a:pt x="311" y="1379"/>
                </a:cubicBezTo>
                <a:cubicBezTo>
                  <a:pt x="82" y="1334"/>
                  <a:pt x="66" y="1214"/>
                  <a:pt x="33" y="1091"/>
                </a:cubicBezTo>
                <a:cubicBezTo>
                  <a:pt x="0" y="968"/>
                  <a:pt x="65" y="762"/>
                  <a:pt x="116" y="639"/>
                </a:cubicBezTo>
                <a:cubicBezTo>
                  <a:pt x="167" y="516"/>
                  <a:pt x="253" y="429"/>
                  <a:pt x="338" y="351"/>
                </a:cubicBezTo>
                <a:cubicBezTo>
                  <a:pt x="423" y="273"/>
                  <a:pt x="532" y="229"/>
                  <a:pt x="627" y="172"/>
                </a:cubicBezTo>
                <a:cubicBezTo>
                  <a:pt x="722" y="115"/>
                  <a:pt x="810" y="60"/>
                  <a:pt x="905" y="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262960" y="1765440"/>
            <a:ext cx="211320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zlinearyzowana bram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"/>
          <p:cNvSpPr/>
          <p:nvPr/>
        </p:nvSpPr>
        <p:spPr>
          <a:xfrm>
            <a:off x="0" y="0"/>
            <a:ext cx="9144000" cy="16102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ca rezonatorów kwarc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ako rezystorów (elementy sprzęgające) w generator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Buttlera-Colpittsa a),       Buttlera-Hartleya b)           i  z  ujemną rezystancją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4" name=""/>
          <p:cNvGrpSpPr/>
          <p:nvPr/>
        </p:nvGrpSpPr>
        <p:grpSpPr>
          <a:xfrm>
            <a:off x="958680" y="1569960"/>
            <a:ext cx="6478920" cy="5130720"/>
            <a:chOff x="958680" y="1569960"/>
            <a:chExt cx="6478920" cy="5130720"/>
          </a:xfrm>
        </p:grpSpPr>
        <p:graphicFrame>
          <p:nvGraphicFramePr>
            <p:cNvPr id="1705" name=""/>
            <p:cNvGraphicFramePr/>
            <p:nvPr/>
          </p:nvGraphicFramePr>
          <p:xfrm>
            <a:off x="1000080" y="1569960"/>
            <a:ext cx="6437520" cy="261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0080" y="1569960"/>
                      <a:ext cx="6437520" cy="26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7" name=""/>
            <p:cNvSpPr/>
            <p:nvPr/>
          </p:nvSpPr>
          <p:spPr>
            <a:xfrm>
              <a:off x="1672920" y="5913360"/>
              <a:ext cx="50774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Kwarc pracuje przy rezonansie szeregowym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jako rezystancja R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, sprzęgająca obw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8" name=""/>
            <p:cNvGrpSpPr/>
            <p:nvPr/>
          </p:nvGrpSpPr>
          <p:grpSpPr>
            <a:xfrm>
              <a:off x="958680" y="3481560"/>
              <a:ext cx="6180120" cy="2469240"/>
              <a:chOff x="958680" y="3481560"/>
              <a:chExt cx="6180120" cy="2469240"/>
            </a:xfrm>
          </p:grpSpPr>
          <p:sp>
            <p:nvSpPr>
              <p:cNvPr id="1709" name=""/>
              <p:cNvSpPr/>
              <p:nvPr/>
            </p:nvSpPr>
            <p:spPr>
              <a:xfrm>
                <a:off x="4127400" y="5150160"/>
                <a:ext cx="31716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4182840" y="51764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967480" y="4566240"/>
                <a:ext cx="444960" cy="249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2" name=""/>
              <p:cNvGrpSpPr/>
              <p:nvPr/>
            </p:nvGrpSpPr>
            <p:grpSpPr>
              <a:xfrm>
                <a:off x="2656080" y="5639400"/>
                <a:ext cx="254160" cy="307080"/>
                <a:chOff x="2656080" y="5639400"/>
                <a:chExt cx="254160" cy="307080"/>
              </a:xfrm>
            </p:grpSpPr>
            <p:sp>
              <p:nvSpPr>
                <p:cNvPr id="1713" name=""/>
                <p:cNvSpPr/>
                <p:nvPr/>
              </p:nvSpPr>
              <p:spPr>
                <a:xfrm>
                  <a:off x="2656080" y="563940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2839320" y="573300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5" name=""/>
              <p:cNvSpPr/>
              <p:nvPr/>
            </p:nvSpPr>
            <p:spPr>
              <a:xfrm>
                <a:off x="3796560" y="4555800"/>
                <a:ext cx="444960" cy="246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841560" y="44683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058280" y="456300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8" name=""/>
              <p:cNvGrpSpPr/>
              <p:nvPr/>
            </p:nvGrpSpPr>
            <p:grpSpPr>
              <a:xfrm>
                <a:off x="1429560" y="3481560"/>
                <a:ext cx="137880" cy="2469240"/>
                <a:chOff x="1429560" y="3481560"/>
                <a:chExt cx="137880" cy="246924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1495080" y="3547080"/>
                  <a:ext cx="1800" cy="240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1429560" y="3481560"/>
                  <a:ext cx="137880" cy="7416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1" name=""/>
              <p:cNvSpPr/>
              <p:nvPr/>
            </p:nvSpPr>
            <p:spPr>
              <a:xfrm>
                <a:off x="1516320" y="3989880"/>
                <a:ext cx="291600" cy="12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2" name=""/>
              <p:cNvGrpSpPr/>
              <p:nvPr/>
            </p:nvGrpSpPr>
            <p:grpSpPr>
              <a:xfrm>
                <a:off x="1800720" y="4109040"/>
                <a:ext cx="178200" cy="314640"/>
                <a:chOff x="1800720" y="4109040"/>
                <a:chExt cx="178200" cy="314640"/>
              </a:xfrm>
            </p:grpSpPr>
            <p:sp>
              <p:nvSpPr>
                <p:cNvPr id="1723" name=""/>
                <p:cNvSpPr/>
                <p:nvPr/>
              </p:nvSpPr>
              <p:spPr>
                <a:xfrm>
                  <a:off x="1800720" y="410904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1826640" y="415512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1852920" y="420516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1879200" y="4251240"/>
                  <a:ext cx="28080" cy="345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1900800" y="4301280"/>
                  <a:ext cx="32400" cy="349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1927080" y="4347360"/>
                  <a:ext cx="32400" cy="345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1953000" y="439560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0" name=""/>
              <p:cNvSpPr/>
              <p:nvPr/>
            </p:nvSpPr>
            <p:spPr>
              <a:xfrm>
                <a:off x="1994400" y="4401720"/>
                <a:ext cx="1510200" cy="17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V="1">
                <a:off x="1516320" y="5416200"/>
                <a:ext cx="291600" cy="1227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2" name=""/>
              <p:cNvGrpSpPr/>
              <p:nvPr/>
            </p:nvGrpSpPr>
            <p:grpSpPr>
              <a:xfrm>
                <a:off x="1800720" y="5103000"/>
                <a:ext cx="178200" cy="320040"/>
                <a:chOff x="1800720" y="5103000"/>
                <a:chExt cx="178200" cy="320040"/>
              </a:xfrm>
            </p:grpSpPr>
            <p:sp>
              <p:nvSpPr>
                <p:cNvPr id="1733" name=""/>
                <p:cNvSpPr/>
                <p:nvPr/>
              </p:nvSpPr>
              <p:spPr>
                <a:xfrm>
                  <a:off x="1800720" y="53884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1826640" y="534240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1852920" y="5291640"/>
                  <a:ext cx="25920" cy="352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1872000" y="524556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1900800" y="5194800"/>
                  <a:ext cx="25920" cy="3708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1927080" y="51490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1953000" y="5103000"/>
                  <a:ext cx="25920" cy="3276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0" name=""/>
              <p:cNvSpPr/>
              <p:nvPr/>
            </p:nvSpPr>
            <p:spPr>
              <a:xfrm flipV="1">
                <a:off x="1978200" y="4941360"/>
                <a:ext cx="1465920" cy="171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466440" y="3637080"/>
                <a:ext cx="230400" cy="92880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691440" y="3624840"/>
                <a:ext cx="212040" cy="6854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466440" y="4143960"/>
                <a:ext cx="145440" cy="79740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632400" y="4135320"/>
                <a:ext cx="104760" cy="79560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737520" y="4941720"/>
                <a:ext cx="79200" cy="54180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835440" y="5395680"/>
                <a:ext cx="106920" cy="666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962880" y="4931280"/>
                <a:ext cx="516960" cy="47484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8" name=""/>
              <p:cNvGrpSpPr/>
              <p:nvPr/>
            </p:nvGrpSpPr>
            <p:grpSpPr>
              <a:xfrm>
                <a:off x="3497760" y="4916880"/>
                <a:ext cx="1127520" cy="29160"/>
                <a:chOff x="3497760" y="4916880"/>
                <a:chExt cx="1127520" cy="2916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3497760" y="4937040"/>
                  <a:ext cx="1332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352404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355032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357660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360504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3132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36576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368424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371052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37368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376308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378972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381528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384192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3868200" y="493020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389700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392328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394920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39754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400212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402840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40546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408096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410760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413388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4160160" y="492372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4188600" y="492372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42148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42411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426780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42940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43203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43466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437328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439884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442548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4451760" y="491940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448056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45068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45327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455904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458568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46119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2" name=""/>
              <p:cNvSpPr/>
              <p:nvPr/>
            </p:nvSpPr>
            <p:spPr>
              <a:xfrm flipV="1">
                <a:off x="4520520" y="4885200"/>
                <a:ext cx="2054880" cy="3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924000" y="4275360"/>
                <a:ext cx="908280" cy="42084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832640" y="4696200"/>
                <a:ext cx="163764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466440" y="4566240"/>
                <a:ext cx="144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 flipV="1">
                <a:off x="3711600" y="3636720"/>
                <a:ext cx="2592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95080" y="3877200"/>
                <a:ext cx="1024920" cy="65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665520" y="3614400"/>
                <a:ext cx="84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695400" y="4787280"/>
                <a:ext cx="86400" cy="8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392280" y="4542120"/>
                <a:ext cx="92520" cy="4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423600" y="4782240"/>
                <a:ext cx="86760" cy="820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106280" y="4718880"/>
                <a:ext cx="317520" cy="215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191240" y="474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245680" y="4500000"/>
                <a:ext cx="563040" cy="215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5" name=""/>
              <p:cNvGrpSpPr/>
              <p:nvPr/>
            </p:nvGrpSpPr>
            <p:grpSpPr>
              <a:xfrm>
                <a:off x="1947960" y="3630600"/>
                <a:ext cx="395280" cy="288000"/>
                <a:chOff x="1947960" y="3630600"/>
                <a:chExt cx="395280" cy="288000"/>
              </a:xfrm>
            </p:grpSpPr>
            <p:sp>
              <p:nvSpPr>
                <p:cNvPr id="1806" name=""/>
                <p:cNvSpPr/>
                <p:nvPr/>
              </p:nvSpPr>
              <p:spPr>
                <a:xfrm>
                  <a:off x="1947960" y="363060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~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2272320" y="370512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8" name=""/>
              <p:cNvSpPr/>
              <p:nvPr/>
            </p:nvSpPr>
            <p:spPr>
              <a:xfrm>
                <a:off x="6693840" y="4854240"/>
                <a:ext cx="444960" cy="246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820920" y="48715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006360" y="3724920"/>
                <a:ext cx="439200" cy="262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958680" y="3526560"/>
                <a:ext cx="432000" cy="261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2" name=""/>
              <p:cNvGrpSpPr/>
              <p:nvPr/>
            </p:nvGrpSpPr>
            <p:grpSpPr>
              <a:xfrm>
                <a:off x="1052640" y="3572280"/>
                <a:ext cx="209880" cy="213480"/>
                <a:chOff x="1052640" y="3572280"/>
                <a:chExt cx="209880" cy="213480"/>
              </a:xfrm>
            </p:grpSpPr>
            <p:sp>
              <p:nvSpPr>
                <p:cNvPr id="1813" name=""/>
                <p:cNvSpPr/>
                <p:nvPr/>
              </p:nvSpPr>
              <p:spPr>
                <a:xfrm>
                  <a:off x="105264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26036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086840" y="35722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6" name=""/>
              <p:cNvSpPr/>
              <p:nvPr/>
            </p:nvSpPr>
            <p:spPr>
              <a:xfrm>
                <a:off x="1018080" y="3849480"/>
                <a:ext cx="318960" cy="211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085040" y="38743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576960" y="4135320"/>
                <a:ext cx="93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9" name=""/>
              <p:cNvGrpSpPr/>
              <p:nvPr/>
            </p:nvGrpSpPr>
            <p:grpSpPr>
              <a:xfrm>
                <a:off x="1974240" y="4768200"/>
                <a:ext cx="4990320" cy="116640"/>
                <a:chOff x="1974240" y="4768200"/>
                <a:chExt cx="4990320" cy="11664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1974240" y="4825080"/>
                  <a:ext cx="47930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6753960" y="4768200"/>
                  <a:ext cx="210600" cy="1166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1470240" y="4820760"/>
                <a:ext cx="495720" cy="11880"/>
                <a:chOff x="1470240" y="4820760"/>
                <a:chExt cx="495720" cy="1188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187200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734840" y="4820760"/>
                  <a:ext cx="91440" cy="11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59444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1470240" y="4820760"/>
                  <a:ext cx="78480" cy="1188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7" name=""/>
              <p:cNvSpPr/>
              <p:nvPr/>
            </p:nvSpPr>
            <p:spPr>
              <a:xfrm flipV="1">
                <a:off x="2849400" y="4866480"/>
                <a:ext cx="564840" cy="839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8" name=""/>
          <p:cNvGrpSpPr/>
          <p:nvPr/>
        </p:nvGrpSpPr>
        <p:grpSpPr>
          <a:xfrm>
            <a:off x="1952640" y="2044800"/>
            <a:ext cx="4272480" cy="1689120"/>
            <a:chOff x="1952640" y="2044800"/>
            <a:chExt cx="4272480" cy="1689120"/>
          </a:xfrm>
        </p:grpSpPr>
        <p:sp>
          <p:nvSpPr>
            <p:cNvPr id="1829" name=""/>
            <p:cNvSpPr/>
            <p:nvPr/>
          </p:nvSpPr>
          <p:spPr>
            <a:xfrm>
              <a:off x="2336760" y="27734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336760" y="304812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019240" y="297180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565360" y="3200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2336760" y="2666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rot="10800000">
              <a:off x="3098520" y="28191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565360" y="26668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174840" y="2666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019240" y="35053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17484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394160" y="27734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394160" y="304812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936960" y="297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622760" y="3200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4394160" y="2666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rot="10800000">
              <a:off x="5155920" y="28191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622760" y="2666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232240" y="266688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622760" y="3505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23224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174840" y="35053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745080" y="2849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936960" y="2849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784680" y="2819520"/>
              <a:ext cx="115920" cy="28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537000" y="297180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556080" y="2666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rot="10800000">
              <a:off x="1952640" y="3079800"/>
              <a:ext cx="122400" cy="34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019240" y="342900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V="1">
              <a:off x="2019240" y="2971800"/>
              <a:ext cx="0" cy="9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14784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53368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59252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147840" y="2630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051000" y="373392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3174840" y="3428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207040" y="26337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708360" y="20448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784680" y="20448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784680" y="2133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523224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019240" y="2133720"/>
              <a:ext cx="16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2019240" y="21337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008080" y="29289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537160" y="2619360"/>
              <a:ext cx="7164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538960" y="346536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5559480" y="27428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613120" y="28335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195880" y="347328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7" name=""/>
          <p:cNvSpPr/>
          <p:nvPr/>
        </p:nvSpPr>
        <p:spPr>
          <a:xfrm>
            <a:off x="716760" y="285840"/>
            <a:ext cx="77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w tzw. układzie aperiodycz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42080" y="113184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wytwarzają przebiegi niesinusoidalne - prostokątn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691920" y="3824280"/>
            <a:ext cx="7391880" cy="2440080"/>
            <a:chOff x="691920" y="3824280"/>
            <a:chExt cx="7391880" cy="2440080"/>
          </a:xfrm>
        </p:grpSpPr>
        <p:sp>
          <p:nvSpPr>
            <p:cNvPr id="1880" name=""/>
            <p:cNvSpPr/>
            <p:nvPr/>
          </p:nvSpPr>
          <p:spPr>
            <a:xfrm rot="5400000">
              <a:off x="2903400" y="4428720"/>
              <a:ext cx="105696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913200" y="4798800"/>
              <a:ext cx="158760" cy="158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071960" y="4890960"/>
              <a:ext cx="141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900880" y="466236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rot="10800000">
              <a:off x="4479480" y="5043240"/>
              <a:ext cx="158760" cy="44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572000" y="4890960"/>
              <a:ext cx="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572000" y="550044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163680" y="59878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355920" y="59878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203280" y="5957640"/>
              <a:ext cx="115920" cy="283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355920" y="6109920"/>
              <a:ext cx="348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136600" y="610992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2111400" y="4890600"/>
              <a:ext cx="0" cy="12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535280" y="484956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342960" y="4190760"/>
              <a:ext cx="7164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377880" y="428076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68440" y="54100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3392280" y="519552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80120" y="382428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1530360" y="4890960"/>
              <a:ext cx="14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083360" y="491292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102440" y="5867280"/>
              <a:ext cx="7128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027560" y="617184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V="1">
              <a:off x="7151400" y="595764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7151400" y="504324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471800" y="527184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rot="5400000">
              <a:off x="5403960" y="4505040"/>
              <a:ext cx="105696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413400" y="4875120"/>
              <a:ext cx="158760" cy="158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401440" y="473832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594480" y="495612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808600" y="54100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5932440" y="519552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883120" y="4267080"/>
              <a:ext cx="7128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5922720" y="43509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019920" y="397656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992480" y="5563800"/>
              <a:ext cx="12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100 kO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6852960" y="4960440"/>
              <a:ext cx="0" cy="11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833880" y="493848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520640" y="4884480"/>
              <a:ext cx="0" cy="84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093760" y="483696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rot="10800000">
              <a:off x="1451880" y="4984560"/>
              <a:ext cx="158760" cy="445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414440" y="57304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487760" y="584640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91920" y="5865480"/>
              <a:ext cx="12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100 kO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/>
          <p:nvPr/>
        </p:nvSpPr>
        <p:spPr>
          <a:xfrm>
            <a:off x="-339840" y="0"/>
            <a:ext cx="9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trajanie kwar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5" name=""/>
          <p:cNvGrpSpPr/>
          <p:nvPr/>
        </p:nvGrpSpPr>
        <p:grpSpPr>
          <a:xfrm>
            <a:off x="5692680" y="1584000"/>
            <a:ext cx="419040" cy="2165400"/>
            <a:chOff x="5692680" y="1584000"/>
            <a:chExt cx="419040" cy="2165400"/>
          </a:xfrm>
        </p:grpSpPr>
        <p:grpSp>
          <p:nvGrpSpPr>
            <p:cNvPr id="1926" name=""/>
            <p:cNvGrpSpPr/>
            <p:nvPr/>
          </p:nvGrpSpPr>
          <p:grpSpPr>
            <a:xfrm>
              <a:off x="5692680" y="2643120"/>
              <a:ext cx="365040" cy="193680"/>
              <a:chOff x="5692680" y="2643120"/>
              <a:chExt cx="365040" cy="193680"/>
            </a:xfrm>
          </p:grpSpPr>
          <p:sp>
            <p:nvSpPr>
              <p:cNvPr id="1927" name=""/>
              <p:cNvSpPr/>
              <p:nvPr/>
            </p:nvSpPr>
            <p:spPr>
              <a:xfrm>
                <a:off x="5692680" y="270324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709960" y="264312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709960" y="283500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"/>
            <p:cNvGrpSpPr/>
            <p:nvPr/>
          </p:nvGrpSpPr>
          <p:grpSpPr>
            <a:xfrm>
              <a:off x="5703840" y="1873080"/>
              <a:ext cx="407880" cy="457200"/>
              <a:chOff x="5703840" y="1873080"/>
              <a:chExt cx="407880" cy="457200"/>
            </a:xfrm>
          </p:grpSpPr>
          <p:grpSp>
            <p:nvGrpSpPr>
              <p:cNvPr id="1931" name=""/>
              <p:cNvGrpSpPr/>
              <p:nvPr/>
            </p:nvGrpSpPr>
            <p:grpSpPr>
              <a:xfrm>
                <a:off x="5719680" y="2060280"/>
                <a:ext cx="358560" cy="131760"/>
                <a:chOff x="5719680" y="2060280"/>
                <a:chExt cx="358560" cy="13176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5719680" y="2185560"/>
                  <a:ext cx="35856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5719680" y="2060280"/>
                  <a:ext cx="35856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4" name=""/>
              <p:cNvSpPr/>
              <p:nvPr/>
            </p:nvSpPr>
            <p:spPr>
              <a:xfrm flipV="1">
                <a:off x="5703840" y="1922040"/>
                <a:ext cx="35856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000480" y="1873080"/>
                <a:ext cx="1112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6" name=""/>
            <p:cNvSpPr/>
            <p:nvPr/>
          </p:nvSpPr>
          <p:spPr>
            <a:xfrm>
              <a:off x="5862600" y="2833560"/>
              <a:ext cx="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5862600" y="217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5875200" y="15840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9" name=""/>
          <p:cNvGrpSpPr/>
          <p:nvPr/>
        </p:nvGrpSpPr>
        <p:grpSpPr>
          <a:xfrm>
            <a:off x="1843200" y="1507680"/>
            <a:ext cx="1304280" cy="2251440"/>
            <a:chOff x="1843200" y="1507680"/>
            <a:chExt cx="1304280" cy="2251440"/>
          </a:xfrm>
        </p:grpSpPr>
        <p:grpSp>
          <p:nvGrpSpPr>
            <p:cNvPr id="1940" name=""/>
            <p:cNvGrpSpPr/>
            <p:nvPr/>
          </p:nvGrpSpPr>
          <p:grpSpPr>
            <a:xfrm>
              <a:off x="2782440" y="2452680"/>
              <a:ext cx="365040" cy="193680"/>
              <a:chOff x="2782440" y="2452680"/>
              <a:chExt cx="365040" cy="193680"/>
            </a:xfrm>
          </p:grpSpPr>
          <p:sp>
            <p:nvSpPr>
              <p:cNvPr id="1941" name=""/>
              <p:cNvSpPr/>
              <p:nvPr/>
            </p:nvSpPr>
            <p:spPr>
              <a:xfrm>
                <a:off x="2782440" y="251280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799720" y="245268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799720" y="264456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 flipV="1">
              <a:off x="2968200" y="1507680"/>
              <a:ext cx="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957040" y="2631960"/>
              <a:ext cx="0" cy="11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2041200" y="2028600"/>
              <a:ext cx="92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028600" y="2028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028600" y="263340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028600" y="3203280"/>
              <a:ext cx="9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0" name=""/>
            <p:cNvGrpSpPr/>
            <p:nvPr/>
          </p:nvGrpSpPr>
          <p:grpSpPr>
            <a:xfrm>
              <a:off x="1843200" y="2313000"/>
              <a:ext cx="407160" cy="457200"/>
              <a:chOff x="1843200" y="2313000"/>
              <a:chExt cx="407160" cy="457200"/>
            </a:xfrm>
          </p:grpSpPr>
          <p:grpSp>
            <p:nvGrpSpPr>
              <p:cNvPr id="1951" name=""/>
              <p:cNvGrpSpPr/>
              <p:nvPr/>
            </p:nvGrpSpPr>
            <p:grpSpPr>
              <a:xfrm>
                <a:off x="1858680" y="2500200"/>
                <a:ext cx="358200" cy="131760"/>
                <a:chOff x="1858680" y="2500200"/>
                <a:chExt cx="358200" cy="131760"/>
              </a:xfrm>
            </p:grpSpPr>
            <p:sp>
              <p:nvSpPr>
                <p:cNvPr id="1952" name=""/>
                <p:cNvSpPr/>
                <p:nvPr/>
              </p:nvSpPr>
              <p:spPr>
                <a:xfrm>
                  <a:off x="1858680" y="2625480"/>
                  <a:ext cx="35820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1858680" y="2500200"/>
                  <a:ext cx="35820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4" name=""/>
              <p:cNvSpPr/>
              <p:nvPr/>
            </p:nvSpPr>
            <p:spPr>
              <a:xfrm flipV="1">
                <a:off x="1843200" y="2361960"/>
                <a:ext cx="35820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139480" y="2313000"/>
                <a:ext cx="11088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6" name=""/>
            <p:cNvSpPr/>
            <p:nvPr/>
          </p:nvSpPr>
          <p:spPr>
            <a:xfrm>
              <a:off x="2943000" y="1990440"/>
              <a:ext cx="741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922120" y="31701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36440" y="4722840"/>
            <a:ext cx="83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 przestrajania zależy od parametrów kwarcu, wykonania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f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MHz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 może wynosić 100Hz - 200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19080"/>
            <a:ext cx="899316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ormować sygnały przy minimalnych poziomach, w liniowych zakresach  pracy elementów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ywnych (poniżej 10  dBm ~ 10 mW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iminować zbędne sprzężenia elektrostatyczne i magnetyczne między obwod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przewodam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szerokopasmowe filtrowanie i stabilizowanie zasilaczy, często stosować dodatko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filtracji RC lub LC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ermetycznie ekranować oscylatory i dzielniki TTL oraz zasilać je z odrębnego zasilacz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w torach generatorów i wzmacniaczy dopasowane impedancyjne, filtry środkow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b dolnoprzepustow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ntować poszczególne układy jako oddzielne podzespoły i dobierać właściwe punkt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łączenia do mas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zasady montażu UKF, tj. z minimalnymi indukcyjnościami doprowadzeń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zmniejszyć poziom sygnałów fałszywych należ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9240" y="2214720"/>
            <a:ext cx="8762760" cy="193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dobrym nadajniku poziom sygnałów fałszywych nie powinien przekraczać szumów progowych, a sporadycznie najwyżej o 1 do 3 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armoniczne i ich kombinacje, pojawiające się w torze nadawczym, stają się przyczyną zakłóceń radiowych  i telewizyj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11:28:36Z</dcterms:created>
  <dc:creator>MK</dc:creator>
  <dc:description/>
  <dc:language>en-US</dc:language>
  <cp:lastModifiedBy>MK</cp:lastModifiedBy>
  <dcterms:modified xsi:type="dcterms:W3CDTF">2005-01-13T14:53:23Z</dcterms:modified>
  <cp:revision>83</cp:revision>
  <dc:subject/>
  <dc:title>Generatory LC</dc:title>
</cp:coreProperties>
</file>